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5.gif" ContentType="image/gif"/>
  <Override PartName="/ppt/media/image35.gif" ContentType="image/gif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png" ContentType="image/png"/>
  <Override PartName="/ppt/media/image22.gif" ContentType="image/gif"/>
  <Override PartName="/ppt/media/image2.png" ContentType="image/png"/>
  <Override PartName="/ppt/media/image32.png" ContentType="image/png"/>
  <Override PartName="/ppt/media/image26.gif" ContentType="image/gif"/>
  <Override PartName="/ppt/media/image3.gif" ContentType="image/gif"/>
  <Override PartName="/ppt/media/image12.png" ContentType="image/png"/>
  <Override PartName="/ppt/media/image39.gif" ContentType="image/gif"/>
  <Override PartName="/ppt/media/image38.gif" ContentType="image/gif"/>
  <Override PartName="/ppt/media/image43.gif" ContentType="image/gif"/>
  <Override PartName="/ppt/media/image46.png" ContentType="image/png"/>
  <Override PartName="/ppt/media/image44.jpeg" ContentType="image/jpeg"/>
  <Override PartName="/ppt/media/image41.gif" ContentType="image/gif"/>
  <Override PartName="/ppt/media/image34.png" ContentType="image/png"/>
  <Override PartName="/ppt/media/image9.png" ContentType="image/png"/>
  <Override PartName="/ppt/media/image29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13.gif" ContentType="image/gif"/>
  <Override PartName="/ppt/media/image40.png" ContentType="image/png"/>
  <Override PartName="/ppt/media/image11.jpeg" ContentType="image/jpeg"/>
  <Override PartName="/ppt/media/image49.gif" ContentType="image/gif"/>
  <Override PartName="/ppt/media/image42.png" ContentType="image/png"/>
  <Override PartName="/ppt/media/image33.png" ContentType="image/png"/>
  <Override PartName="/ppt/media/image31.png" ContentType="image/png"/>
  <Override PartName="/ppt/media/image30.png" ContentType="image/png"/>
  <Override PartName="/ppt/media/image10.png" ContentType="image/png"/>
  <Override PartName="/ppt/media/image37.gif" ContentType="image/gif"/>
  <Override PartName="/ppt/media/image7.gif" ContentType="image/gif"/>
  <Override PartName="/ppt/media/image6.gif" ContentType="image/gif"/>
  <Override PartName="/ppt/media/image36.gif" ContentType="image/gif"/>
  <Override PartName="/ppt/media/image8.png" ContentType="image/png"/>
  <Override PartName="/ppt/media/image45.gif" ContentType="image/gif"/>
  <Override PartName="/ppt/media/image4.gif" ContentType="image/gif"/>
  <Override PartName="/ppt/media/image27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436-DEC9-4A9A-A96E-F2187594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47B-5F8B-4448-B39F-1F193354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A79-37AB-4473-895B-F44FDEEC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BCC-ECC1-4ECB-B0E9-CC46F517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22DA-410A-44BE-BD93-E02F6600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A405-4D06-4DF1-8D4E-8A913F4C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3980-2258-4FB7-9535-2E6A5E14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0CBC-5F40-47F4-A377-2B78F1A2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825F-24B8-41ED-8BB8-B26C7AFC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99CE-F0E3-45A7-A773-9CDB55AE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BED5-6740-4EF6-AFDF-38D7B6B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C83-413F-4A12-9F66-F839B15A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5437-3DE9-448D-8952-6571A66F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F978-08AD-416B-931F-9023D7C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FE90-6E58-486F-9D50-37819A50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217F-607E-4933-8A44-AF3C1717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2777-FEC0-418C-98FF-57B128E9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0525-0991-40E8-989C-CF7D9DBC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6565-F2A0-4E94-9E9E-68BE41C0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02CF-12BA-4737-9418-365DFC16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9E9E-37A5-4A25-8B22-A782AFC0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E604-C4D0-4F1E-AB40-851BA323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F31-C8F9-4E73-8051-60F995C1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50F7-1035-4969-B86D-0EB1731B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D5EB-A1B8-4885-891A-CAA34C6D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60714-4428-4159-8824-E3DD999D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F7FB-F069-4B40-AD53-EF31294B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92812-487A-4336-8BC2-2C5AC5F4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E48C-5161-403A-930B-30FED131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C2F5-90C9-49A8-B5D1-5C5E78DB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B87-2A64-4C8E-AAA1-82D0494A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9F5-820A-4A5A-97A1-D551A1D8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44E-A3E7-41C5-9EF4-D21C233F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7EF-635A-4397-AE6D-DD9B6D42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CDB-EC7B-4559-BDB4-0805AC54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322-99D8-42BA-B489-21DF4F2C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FF45-1D63-46A0-9AE5-FE44B293C7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9875-0CC6-40AC-A2D4-3718A1994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478D-4308-4805-AD1E-D51F4912CE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2680-8651-468E-A4EB-C59457798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6165-903B-46A7-A9D7-C4AE6760AF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AF2D-DB62-48C8-ABFB-B530A2471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6.gif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image" Target="../media/image22.gif"/><Relationship Id="rId12" Type="http://schemas.openxmlformats.org/officeDocument/2006/relationships/image" Target="../media/image23.gif"/><Relationship Id="rId13" Type="http://schemas.openxmlformats.org/officeDocument/2006/relationships/image" Target="../media/image24.gif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7.gif"/><Relationship Id="rId14" Type="http://schemas.openxmlformats.org/officeDocument/2006/relationships/image" Target="../media/image27.gif"/><Relationship Id="rId15" Type="http://schemas.openxmlformats.org/officeDocument/2006/relationships/image" Target="../media/image27.gif"/><Relationship Id="rId16" Type="http://schemas.openxmlformats.org/officeDocument/2006/relationships/image" Target="../media/image28.png"/><Relationship Id="rId17" Type="http://schemas.openxmlformats.org/officeDocument/2006/relationships/image" Target="../media/image29.gif"/><Relationship Id="rId18" Type="http://schemas.openxmlformats.org/officeDocument/2006/relationships/image" Target="../media/image29.gif"/><Relationship Id="rId19" Type="http://schemas.openxmlformats.org/officeDocument/2006/relationships/image" Target="../media/image30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27.gif"/><Relationship Id="rId14" Type="http://schemas.openxmlformats.org/officeDocument/2006/relationships/image" Target="../media/image28.png"/><Relationship Id="rId15" Type="http://schemas.openxmlformats.org/officeDocument/2006/relationships/image" Target="../media/image31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18.gif"/><Relationship Id="rId6" Type="http://schemas.openxmlformats.org/officeDocument/2006/relationships/image" Target="../media/image37.gif"/><Relationship Id="rId7" Type="http://schemas.openxmlformats.org/officeDocument/2006/relationships/image" Target="../media/image36.gif"/><Relationship Id="rId8" Type="http://schemas.openxmlformats.org/officeDocument/2006/relationships/image" Target="../media/image3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38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37.gif"/><Relationship Id="rId15" Type="http://schemas.openxmlformats.org/officeDocument/2006/relationships/image" Target="../media/image35.gif"/><Relationship Id="rId16" Type="http://schemas.openxmlformats.org/officeDocument/2006/relationships/image" Target="../media/image37.gif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21.gif"/><Relationship Id="rId9" Type="http://schemas.openxmlformats.org/officeDocument/2006/relationships/image" Target="../media/image40.png"/><Relationship Id="rId10" Type="http://schemas.openxmlformats.org/officeDocument/2006/relationships/image" Target="../media/image20.gif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image" Target="../media/image28.png"/><Relationship Id="rId14" Type="http://schemas.openxmlformats.org/officeDocument/2006/relationships/image" Target="../media/image41.gif"/><Relationship Id="rId15" Type="http://schemas.openxmlformats.org/officeDocument/2006/relationships/image" Target="../media/image41.gif"/><Relationship Id="rId16" Type="http://schemas.openxmlformats.org/officeDocument/2006/relationships/image" Target="../media/image41.gif"/><Relationship Id="rId17" Type="http://schemas.openxmlformats.org/officeDocument/2006/relationships/image" Target="../media/image41.gif"/><Relationship Id="rId18" Type="http://schemas.openxmlformats.org/officeDocument/2006/relationships/image" Target="../media/image41.gif"/><Relationship Id="rId19" Type="http://schemas.openxmlformats.org/officeDocument/2006/relationships/image" Target="../media/image19.gif"/><Relationship Id="rId2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21.gif"/><Relationship Id="rId9" Type="http://schemas.openxmlformats.org/officeDocument/2006/relationships/image" Target="../media/image40.png"/><Relationship Id="rId10" Type="http://schemas.openxmlformats.org/officeDocument/2006/relationships/image" Target="../media/image19.gif"/><Relationship Id="rId11" Type="http://schemas.openxmlformats.org/officeDocument/2006/relationships/image" Target="../media/image20.gif"/><Relationship Id="rId12" Type="http://schemas.openxmlformats.org/officeDocument/2006/relationships/image" Target="../media/image40.png"/><Relationship Id="rId13" Type="http://schemas.openxmlformats.org/officeDocument/2006/relationships/image" Target="../media/image40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image" Target="../media/image44.jpeg"/><Relationship Id="rId4" Type="http://schemas.openxmlformats.org/officeDocument/2006/relationships/image" Target="../media/image45.gif"/><Relationship Id="rId5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image" Target="../media/image44.jpeg"/><Relationship Id="rId4" Type="http://schemas.openxmlformats.org/officeDocument/2006/relationships/image" Target="../media/image45.gif"/><Relationship Id="rId5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7.gif"/><Relationship Id="rId6" Type="http://schemas.openxmlformats.org/officeDocument/2006/relationships/image" Target="../media/image24.gif"/><Relationship Id="rId7" Type="http://schemas.openxmlformats.org/officeDocument/2006/relationships/image" Target="../media/image48.gif"/><Relationship Id="rId8" Type="http://schemas.openxmlformats.org/officeDocument/2006/relationships/image" Target="../media/image49.gif"/><Relationship Id="rId9" Type="http://schemas.openxmlformats.org/officeDocument/2006/relationships/image" Target="../media/image50.gif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-380880" y="3276720"/>
            <a:ext cx="78483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What is the Law of Superposition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66360" y="3594240"/>
            <a:ext cx="270684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50460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62120" y="3581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74248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029200" y="45720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267080" y="457200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04600" y="45720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028480" y="556272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61400" y="55627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4267080" y="556200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790600" y="55627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layers of deposited sedimentary rock, the oldest rock layers are at the ____ and the rock layers become younger toward the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36576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048120"/>
            <a:ext cx="144792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Horizon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 flipH="1">
            <a:off x="728280" y="1295280"/>
            <a:ext cx="5148360" cy="49435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198960" y="4821120"/>
            <a:ext cx="2433600" cy="192240"/>
          </a:xfrm>
          <a:custGeom>
            <a:avLst/>
            <a:gdLst/>
            <a:ahLst/>
            <a:rect l="l" t="t" r="r" b="b"/>
            <a:pathLst>
              <a:path w="1669" h="147">
                <a:moveTo>
                  <a:pt x="180" y="112"/>
                </a:moveTo>
                <a:cubicBezTo>
                  <a:pt x="410" y="146"/>
                  <a:pt x="0" y="130"/>
                  <a:pt x="567" y="147"/>
                </a:cubicBezTo>
                <a:cubicBezTo>
                  <a:pt x="736" y="144"/>
                  <a:pt x="905" y="144"/>
                  <a:pt x="1074" y="138"/>
                </a:cubicBezTo>
                <a:cubicBezTo>
                  <a:pt x="1106" y="137"/>
                  <a:pt x="1155" y="113"/>
                  <a:pt x="1186" y="104"/>
                </a:cubicBezTo>
                <a:cubicBezTo>
                  <a:pt x="1204" y="99"/>
                  <a:pt x="1221" y="92"/>
                  <a:pt x="1238" y="86"/>
                </a:cubicBezTo>
                <a:cubicBezTo>
                  <a:pt x="1246" y="83"/>
                  <a:pt x="1263" y="78"/>
                  <a:pt x="1263" y="78"/>
                </a:cubicBezTo>
                <a:cubicBezTo>
                  <a:pt x="1295" y="48"/>
                  <a:pt x="1612" y="37"/>
                  <a:pt x="1650" y="35"/>
                </a:cubicBezTo>
                <a:cubicBezTo>
                  <a:pt x="1656" y="26"/>
                  <a:pt x="1669" y="19"/>
                  <a:pt x="1667" y="9"/>
                </a:cubicBezTo>
                <a:cubicBezTo>
                  <a:pt x="1665" y="0"/>
                  <a:pt x="1651" y="0"/>
                  <a:pt x="1642" y="0"/>
                </a:cubicBezTo>
                <a:cubicBezTo>
                  <a:pt x="1579" y="0"/>
                  <a:pt x="1516" y="6"/>
                  <a:pt x="1453" y="9"/>
                </a:cubicBezTo>
                <a:cubicBezTo>
                  <a:pt x="1390" y="31"/>
                  <a:pt x="1390" y="19"/>
                  <a:pt x="1306" y="18"/>
                </a:cubicBezTo>
                <a:cubicBezTo>
                  <a:pt x="902" y="13"/>
                  <a:pt x="498" y="12"/>
                  <a:pt x="94" y="9"/>
                </a:cubicBezTo>
                <a:cubicBezTo>
                  <a:pt x="100" y="18"/>
                  <a:pt x="102" y="29"/>
                  <a:pt x="111" y="35"/>
                </a:cubicBezTo>
                <a:cubicBezTo>
                  <a:pt x="121" y="42"/>
                  <a:pt x="137" y="36"/>
                  <a:pt x="146" y="43"/>
                </a:cubicBezTo>
                <a:cubicBezTo>
                  <a:pt x="160" y="54"/>
                  <a:pt x="151" y="81"/>
                  <a:pt x="163" y="95"/>
                </a:cubicBezTo>
                <a:cubicBezTo>
                  <a:pt x="178" y="114"/>
                  <a:pt x="203" y="112"/>
                  <a:pt x="180" y="112"/>
                </a:cubicBezTo>
                <a:close/>
              </a:path>
            </a:pathLst>
          </a:custGeom>
          <a:solidFill>
            <a:srgbClr val="996633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6840" y="4668840"/>
            <a:ext cx="23338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93920" y="4530600"/>
            <a:ext cx="3054600" cy="416160"/>
          </a:xfrm>
          <a:custGeom>
            <a:avLst/>
            <a:gdLst/>
            <a:ahLst/>
            <a:rect l="l" t="t" r="r" b="b"/>
            <a:pathLst>
              <a:path w="2049" h="241">
                <a:moveTo>
                  <a:pt x="1765" y="25"/>
                </a:moveTo>
                <a:cubicBezTo>
                  <a:pt x="1433" y="3"/>
                  <a:pt x="1099" y="19"/>
                  <a:pt x="767" y="0"/>
                </a:cubicBezTo>
                <a:cubicBezTo>
                  <a:pt x="494" y="15"/>
                  <a:pt x="384" y="20"/>
                  <a:pt x="37" y="25"/>
                </a:cubicBezTo>
                <a:cubicBezTo>
                  <a:pt x="0" y="62"/>
                  <a:pt x="22" y="67"/>
                  <a:pt x="62" y="77"/>
                </a:cubicBezTo>
                <a:cubicBezTo>
                  <a:pt x="69" y="97"/>
                  <a:pt x="67" y="121"/>
                  <a:pt x="80" y="137"/>
                </a:cubicBezTo>
                <a:cubicBezTo>
                  <a:pt x="85" y="144"/>
                  <a:pt x="96" y="145"/>
                  <a:pt x="105" y="146"/>
                </a:cubicBezTo>
                <a:cubicBezTo>
                  <a:pt x="165" y="151"/>
                  <a:pt x="226" y="151"/>
                  <a:pt x="286" y="154"/>
                </a:cubicBezTo>
                <a:cubicBezTo>
                  <a:pt x="2049" y="143"/>
                  <a:pt x="1099" y="241"/>
                  <a:pt x="1575" y="129"/>
                </a:cubicBezTo>
                <a:cubicBezTo>
                  <a:pt x="1616" y="135"/>
                  <a:pt x="1686" y="150"/>
                  <a:pt x="1722" y="129"/>
                </a:cubicBezTo>
                <a:cubicBezTo>
                  <a:pt x="1737" y="120"/>
                  <a:pt x="1725" y="94"/>
                  <a:pt x="1730" y="77"/>
                </a:cubicBezTo>
                <a:cubicBezTo>
                  <a:pt x="1731" y="73"/>
                  <a:pt x="1763" y="28"/>
                  <a:pt x="1765" y="25"/>
                </a:cubicBezTo>
                <a:close/>
              </a:path>
            </a:pathLst>
          </a:custGeom>
          <a:solidFill>
            <a:srgbClr val="cc99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4343400"/>
            <a:ext cx="2743200" cy="228600"/>
          </a:xfrm>
          <a:custGeom>
            <a:avLst/>
            <a:gdLst/>
            <a:ahLst/>
            <a:rect l="l" t="t" r="r" b="b"/>
            <a:pathLst>
              <a:path w="1853" h="151">
                <a:moveTo>
                  <a:pt x="117" y="151"/>
                </a:moveTo>
                <a:cubicBezTo>
                  <a:pt x="640" y="145"/>
                  <a:pt x="1158" y="142"/>
                  <a:pt x="1681" y="134"/>
                </a:cubicBezTo>
                <a:cubicBezTo>
                  <a:pt x="1690" y="131"/>
                  <a:pt x="1698" y="126"/>
                  <a:pt x="1707" y="125"/>
                </a:cubicBezTo>
                <a:cubicBezTo>
                  <a:pt x="1750" y="120"/>
                  <a:pt x="1794" y="126"/>
                  <a:pt x="1836" y="116"/>
                </a:cubicBezTo>
                <a:cubicBezTo>
                  <a:pt x="1838" y="116"/>
                  <a:pt x="1853" y="66"/>
                  <a:pt x="1853" y="65"/>
                </a:cubicBezTo>
                <a:cubicBezTo>
                  <a:pt x="1848" y="48"/>
                  <a:pt x="1846" y="22"/>
                  <a:pt x="1819" y="22"/>
                </a:cubicBezTo>
                <a:cubicBezTo>
                  <a:pt x="1220" y="16"/>
                  <a:pt x="621" y="34"/>
                  <a:pt x="22" y="39"/>
                </a:cubicBezTo>
                <a:cubicBezTo>
                  <a:pt x="49" y="118"/>
                  <a:pt x="0" y="0"/>
                  <a:pt x="74" y="74"/>
                </a:cubicBezTo>
                <a:cubicBezTo>
                  <a:pt x="102" y="102"/>
                  <a:pt x="74" y="151"/>
                  <a:pt x="117" y="151"/>
                </a:cubicBezTo>
                <a:close/>
              </a:path>
            </a:pathLst>
          </a:custGeom>
          <a:solidFill>
            <a:srgbClr val="6633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9534200">
            <a:off x="5181480" y="1295280"/>
            <a:ext cx="419112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Horizontality: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Rocks fall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place forming fla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horizonta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 rot="19273200">
            <a:off x="4191120" y="3124080"/>
            <a:ext cx="1544400" cy="14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2362320"/>
            <a:ext cx="73915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Horizon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 are originally deposited in flat horizontal layers. If the rocks are folded or are laying at a steep angle, they must have been disturbed or tilted after they were originally deposi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rot="10800">
            <a:off x="990000" y="3581280"/>
            <a:ext cx="59436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rot="10800">
            <a:off x="990000" y="4572000"/>
            <a:ext cx="594360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rot="10800">
            <a:off x="990000" y="556272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rot="20721000">
            <a:off x="989640" y="3581280"/>
            <a:ext cx="594360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rot="20721000">
            <a:off x="989640" y="4572000"/>
            <a:ext cx="594360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20721000">
            <a:off x="989640" y="556236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2666880"/>
            <a:ext cx="152424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3048120"/>
            <a:ext cx="10666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7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7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7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8600" y="2362320"/>
            <a:ext cx="76201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the Law of Horizont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 are originally deposited in ____ horizontal layers. If the rocks are folded or at an angle, they must have been disturbed _____they were originally deposi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rot="10800">
            <a:off x="990000" y="3581280"/>
            <a:ext cx="59436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0800">
            <a:off x="990000" y="4572000"/>
            <a:ext cx="594360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rot="10800">
            <a:off x="990000" y="556272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rot="20721000">
            <a:off x="989640" y="3581280"/>
            <a:ext cx="594360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20721000">
            <a:off x="989640" y="4572000"/>
            <a:ext cx="594360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rot="20721000">
            <a:off x="989640" y="556236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2743200"/>
            <a:ext cx="15242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3505320"/>
            <a:ext cx="1523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67480" y="3505320"/>
            <a:ext cx="14479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3200400"/>
            <a:ext cx="1596960" cy="281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-380880" y="3276720"/>
            <a:ext cx="952488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conform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layers of rock as pages of a history b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remove pages, the book is in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when layers of rock are mi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-228600" y="1523880"/>
            <a:ext cx="86104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conformities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re’s how it work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572000" y="3276720"/>
            <a:ext cx="22096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809880" y="326376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066680" y="326376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3047400" y="32637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333400" y="4254480"/>
            <a:ext cx="14475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571280" y="42544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065960" y="425448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3809880" y="42544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333400" y="52452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066680" y="5245200"/>
            <a:ext cx="426744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4571280" y="524448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1523880"/>
            <a:ext cx="7739280" cy="2971800"/>
          </a:xfrm>
          <a:custGeom>
            <a:avLst/>
            <a:gdLst/>
            <a:ahLst/>
            <a:rect l="l" t="t" r="r" b="b"/>
            <a:pathLst>
              <a:path w="4875" h="1315">
                <a:moveTo>
                  <a:pt x="4513" y="1220"/>
                </a:moveTo>
                <a:cubicBezTo>
                  <a:pt x="4204" y="1273"/>
                  <a:pt x="4132" y="1218"/>
                  <a:pt x="3903" y="1159"/>
                </a:cubicBezTo>
                <a:cubicBezTo>
                  <a:pt x="3425" y="1172"/>
                  <a:pt x="2964" y="1189"/>
                  <a:pt x="2480" y="1193"/>
                </a:cubicBezTo>
                <a:cubicBezTo>
                  <a:pt x="2438" y="1222"/>
                  <a:pt x="2482" y="1197"/>
                  <a:pt x="2399" y="1214"/>
                </a:cubicBezTo>
                <a:cubicBezTo>
                  <a:pt x="2378" y="1218"/>
                  <a:pt x="2359" y="1228"/>
                  <a:pt x="2338" y="1234"/>
                </a:cubicBezTo>
                <a:cubicBezTo>
                  <a:pt x="2295" y="1246"/>
                  <a:pt x="2340" y="1235"/>
                  <a:pt x="2283" y="1261"/>
                </a:cubicBezTo>
                <a:cubicBezTo>
                  <a:pt x="2224" y="1288"/>
                  <a:pt x="2156" y="1299"/>
                  <a:pt x="2094" y="1315"/>
                </a:cubicBezTo>
                <a:cubicBezTo>
                  <a:pt x="1913" y="1313"/>
                  <a:pt x="1733" y="1314"/>
                  <a:pt x="1552" y="1308"/>
                </a:cubicBezTo>
                <a:cubicBezTo>
                  <a:pt x="1523" y="1307"/>
                  <a:pt x="1475" y="1262"/>
                  <a:pt x="1443" y="1254"/>
                </a:cubicBezTo>
                <a:cubicBezTo>
                  <a:pt x="1389" y="1241"/>
                  <a:pt x="1335" y="1234"/>
                  <a:pt x="1280" y="1220"/>
                </a:cubicBezTo>
                <a:cubicBezTo>
                  <a:pt x="1002" y="1149"/>
                  <a:pt x="707" y="1216"/>
                  <a:pt x="420" y="1214"/>
                </a:cubicBezTo>
                <a:cubicBezTo>
                  <a:pt x="315" y="1187"/>
                  <a:pt x="277" y="1078"/>
                  <a:pt x="189" y="1024"/>
                </a:cubicBezTo>
                <a:cubicBezTo>
                  <a:pt x="167" y="989"/>
                  <a:pt x="183" y="1007"/>
                  <a:pt x="135" y="976"/>
                </a:cubicBezTo>
                <a:cubicBezTo>
                  <a:pt x="128" y="972"/>
                  <a:pt x="115" y="963"/>
                  <a:pt x="115" y="963"/>
                </a:cubicBezTo>
                <a:cubicBezTo>
                  <a:pt x="110" y="956"/>
                  <a:pt x="107" y="948"/>
                  <a:pt x="101" y="942"/>
                </a:cubicBezTo>
                <a:cubicBezTo>
                  <a:pt x="89" y="931"/>
                  <a:pt x="61" y="915"/>
                  <a:pt x="61" y="915"/>
                </a:cubicBezTo>
                <a:cubicBezTo>
                  <a:pt x="36" y="879"/>
                  <a:pt x="13" y="857"/>
                  <a:pt x="0" y="814"/>
                </a:cubicBezTo>
                <a:cubicBezTo>
                  <a:pt x="2" y="782"/>
                  <a:pt x="1" y="750"/>
                  <a:pt x="6" y="719"/>
                </a:cubicBezTo>
                <a:cubicBezTo>
                  <a:pt x="13" y="678"/>
                  <a:pt x="94" y="643"/>
                  <a:pt x="128" y="631"/>
                </a:cubicBezTo>
                <a:cubicBezTo>
                  <a:pt x="169" y="590"/>
                  <a:pt x="126" y="625"/>
                  <a:pt x="176" y="604"/>
                </a:cubicBezTo>
                <a:cubicBezTo>
                  <a:pt x="200" y="594"/>
                  <a:pt x="195" y="584"/>
                  <a:pt x="217" y="570"/>
                </a:cubicBezTo>
                <a:cubicBezTo>
                  <a:pt x="282" y="527"/>
                  <a:pt x="379" y="514"/>
                  <a:pt x="454" y="502"/>
                </a:cubicBezTo>
                <a:cubicBezTo>
                  <a:pt x="587" y="481"/>
                  <a:pt x="717" y="445"/>
                  <a:pt x="854" y="441"/>
                </a:cubicBezTo>
                <a:cubicBezTo>
                  <a:pt x="1003" y="437"/>
                  <a:pt x="1152" y="436"/>
                  <a:pt x="1301" y="434"/>
                </a:cubicBezTo>
                <a:cubicBezTo>
                  <a:pt x="1337" y="411"/>
                  <a:pt x="1400" y="395"/>
                  <a:pt x="1443" y="380"/>
                </a:cubicBezTo>
                <a:cubicBezTo>
                  <a:pt x="1451" y="377"/>
                  <a:pt x="1482" y="371"/>
                  <a:pt x="1491" y="366"/>
                </a:cubicBezTo>
                <a:cubicBezTo>
                  <a:pt x="1555" y="330"/>
                  <a:pt x="1506" y="345"/>
                  <a:pt x="1558" y="333"/>
                </a:cubicBezTo>
                <a:cubicBezTo>
                  <a:pt x="1615" y="298"/>
                  <a:pt x="1667" y="268"/>
                  <a:pt x="1734" y="258"/>
                </a:cubicBezTo>
                <a:cubicBezTo>
                  <a:pt x="1808" y="221"/>
                  <a:pt x="1885" y="174"/>
                  <a:pt x="1965" y="150"/>
                </a:cubicBezTo>
                <a:cubicBezTo>
                  <a:pt x="1988" y="134"/>
                  <a:pt x="2005" y="129"/>
                  <a:pt x="2033" y="123"/>
                </a:cubicBezTo>
                <a:cubicBezTo>
                  <a:pt x="2074" y="94"/>
                  <a:pt x="2118" y="94"/>
                  <a:pt x="2168" y="89"/>
                </a:cubicBezTo>
                <a:cubicBezTo>
                  <a:pt x="2446" y="32"/>
                  <a:pt x="2724" y="34"/>
                  <a:pt x="3008" y="28"/>
                </a:cubicBezTo>
                <a:cubicBezTo>
                  <a:pt x="3145" y="0"/>
                  <a:pt x="3502" y="33"/>
                  <a:pt x="3591" y="34"/>
                </a:cubicBezTo>
                <a:cubicBezTo>
                  <a:pt x="3702" y="42"/>
                  <a:pt x="3805" y="74"/>
                  <a:pt x="3917" y="82"/>
                </a:cubicBezTo>
                <a:cubicBezTo>
                  <a:pt x="3943" y="91"/>
                  <a:pt x="3998" y="102"/>
                  <a:pt x="3998" y="102"/>
                </a:cubicBezTo>
                <a:cubicBezTo>
                  <a:pt x="4031" y="125"/>
                  <a:pt x="4069" y="129"/>
                  <a:pt x="4106" y="143"/>
                </a:cubicBezTo>
                <a:cubicBezTo>
                  <a:pt x="4177" y="169"/>
                  <a:pt x="4240" y="195"/>
                  <a:pt x="4316" y="204"/>
                </a:cubicBezTo>
                <a:cubicBezTo>
                  <a:pt x="4364" y="216"/>
                  <a:pt x="4404" y="246"/>
                  <a:pt x="4452" y="258"/>
                </a:cubicBezTo>
                <a:cubicBezTo>
                  <a:pt x="4496" y="289"/>
                  <a:pt x="4559" y="292"/>
                  <a:pt x="4608" y="319"/>
                </a:cubicBezTo>
                <a:cubicBezTo>
                  <a:pt x="4639" y="336"/>
                  <a:pt x="4670" y="370"/>
                  <a:pt x="4696" y="394"/>
                </a:cubicBezTo>
                <a:cubicBezTo>
                  <a:pt x="4722" y="418"/>
                  <a:pt x="4745" y="443"/>
                  <a:pt x="4770" y="468"/>
                </a:cubicBezTo>
                <a:cubicBezTo>
                  <a:pt x="4781" y="479"/>
                  <a:pt x="4793" y="491"/>
                  <a:pt x="4804" y="502"/>
                </a:cubicBezTo>
                <a:cubicBezTo>
                  <a:pt x="4813" y="511"/>
                  <a:pt x="4831" y="529"/>
                  <a:pt x="4831" y="529"/>
                </a:cubicBezTo>
                <a:cubicBezTo>
                  <a:pt x="4836" y="543"/>
                  <a:pt x="4840" y="556"/>
                  <a:pt x="4845" y="570"/>
                </a:cubicBezTo>
                <a:cubicBezTo>
                  <a:pt x="4847" y="577"/>
                  <a:pt x="4852" y="590"/>
                  <a:pt x="4852" y="590"/>
                </a:cubicBezTo>
                <a:cubicBezTo>
                  <a:pt x="4856" y="633"/>
                  <a:pt x="4870" y="676"/>
                  <a:pt x="4872" y="719"/>
                </a:cubicBezTo>
                <a:cubicBezTo>
                  <a:pt x="4875" y="788"/>
                  <a:pt x="4862" y="855"/>
                  <a:pt x="4852" y="922"/>
                </a:cubicBezTo>
                <a:cubicBezTo>
                  <a:pt x="4847" y="957"/>
                  <a:pt x="4856" y="1011"/>
                  <a:pt x="4818" y="1024"/>
                </a:cubicBezTo>
                <a:cubicBezTo>
                  <a:pt x="4804" y="1063"/>
                  <a:pt x="4748" y="1077"/>
                  <a:pt x="4709" y="1085"/>
                </a:cubicBezTo>
                <a:cubicBezTo>
                  <a:pt x="4656" y="1123"/>
                  <a:pt x="4681" y="1113"/>
                  <a:pt x="4642" y="1125"/>
                </a:cubicBezTo>
                <a:cubicBezTo>
                  <a:pt x="4608" y="1147"/>
                  <a:pt x="4571" y="1153"/>
                  <a:pt x="4533" y="1166"/>
                </a:cubicBezTo>
                <a:cubicBezTo>
                  <a:pt x="4521" y="1184"/>
                  <a:pt x="4513" y="1198"/>
                  <a:pt x="4513" y="12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3505320"/>
            <a:ext cx="5716800" cy="99036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25146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095160" y="5245200"/>
            <a:ext cx="6858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3526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4191120"/>
            <a:ext cx="569736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403848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nconfor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athering and ero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gap in geologic ti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-380880" y="3276720"/>
            <a:ext cx="952488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conform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a gap in rock layers due to erosion and weathering or a break in the depositing of sediments (missing rock lay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-228600" y="3048120"/>
            <a:ext cx="93726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an Unconform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a ____ in rock layers due to erosion and weathering or a break in the depositing of sediments (missing rock lay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086600" y="16002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89840" y="1066680"/>
            <a:ext cx="1825560" cy="2667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-380880" y="2971800"/>
            <a:ext cx="95248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648320" y="3822840"/>
            <a:ext cx="27064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885480" y="38098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143000" y="38098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3124080" y="38098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410080" y="48006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4760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142280" y="480060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388548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410080" y="579132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142280" y="57913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647600" y="57906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92600">
            <a:off x="4647960" y="47239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33720" y="47242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5943600"/>
            <a:ext cx="2206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886200" y="38095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67183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 rot="21553200">
            <a:off x="6171840" y="671688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15000" y="68324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171480" y="57913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3044400">
            <a:off x="4022280" y="4739760"/>
            <a:ext cx="2233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w of Cross Cutting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cross cutting relationships states that a fault line or an igneous intrusion must be younger than the rock it cuts a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500"/>
                            </p:stCondLst>
                            <p:childTnLst>
                              <p:par>
                                <p:cTn id="73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73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73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57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59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61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6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65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67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6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771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77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-228600" y="3048120"/>
            <a:ext cx="93726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648320" y="3822840"/>
            <a:ext cx="27064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885480" y="38098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143000" y="38098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3124080" y="38098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410080" y="48006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64760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142280" y="480060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88548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410080" y="579132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142280" y="57913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4647600" y="57906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92600">
            <a:off x="4647960" y="47239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33720" y="47242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5943600"/>
            <a:ext cx="2206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886200" y="38095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7183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 rot="21553200">
            <a:off x="6171840" y="671688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68324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171480" y="57913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3044400">
            <a:off x="4022280" y="4739760"/>
            <a:ext cx="2233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at is the Law of Cross Cutting Relationshi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63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ult line or an igneous intrusion must be _____ than the rock it cuts a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38880" y="1523880"/>
            <a:ext cx="1676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62920" y="1066680"/>
            <a:ext cx="1752480" cy="243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000"/>
                            </p:stCondLst>
                            <p:childTnLst>
                              <p:par>
                                <p:cTn id="8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9000"/>
                            </p:stCondLst>
                            <p:childTnLst>
                              <p:par>
                                <p:cTn id="8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5500"/>
                            </p:stCondLst>
                            <p:childTnLst>
                              <p:par>
                                <p:cTn id="8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2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82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2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8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46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48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50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5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54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56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58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860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862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scientists know which fossils are older and which fossils are youn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causes mass exti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-380880" y="1447920"/>
            <a:ext cx="952488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oldest rock and work your way to the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8098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2057400"/>
            <a:ext cx="7739280" cy="2087640"/>
          </a:xfrm>
          <a:custGeom>
            <a:avLst/>
            <a:gdLst/>
            <a:ahLst/>
            <a:rect l="l" t="t" r="r" b="b"/>
            <a:pathLst>
              <a:path w="4875" h="1315">
                <a:moveTo>
                  <a:pt x="4513" y="1220"/>
                </a:moveTo>
                <a:cubicBezTo>
                  <a:pt x="4204" y="1273"/>
                  <a:pt x="4132" y="1218"/>
                  <a:pt x="3903" y="1159"/>
                </a:cubicBezTo>
                <a:cubicBezTo>
                  <a:pt x="3425" y="1172"/>
                  <a:pt x="2964" y="1189"/>
                  <a:pt x="2480" y="1193"/>
                </a:cubicBezTo>
                <a:cubicBezTo>
                  <a:pt x="2438" y="1222"/>
                  <a:pt x="2482" y="1197"/>
                  <a:pt x="2399" y="1214"/>
                </a:cubicBezTo>
                <a:cubicBezTo>
                  <a:pt x="2378" y="1218"/>
                  <a:pt x="2359" y="1228"/>
                  <a:pt x="2338" y="1234"/>
                </a:cubicBezTo>
                <a:cubicBezTo>
                  <a:pt x="2295" y="1246"/>
                  <a:pt x="2340" y="1235"/>
                  <a:pt x="2283" y="1261"/>
                </a:cubicBezTo>
                <a:cubicBezTo>
                  <a:pt x="2224" y="1288"/>
                  <a:pt x="2156" y="1299"/>
                  <a:pt x="2094" y="1315"/>
                </a:cubicBezTo>
                <a:cubicBezTo>
                  <a:pt x="1913" y="1313"/>
                  <a:pt x="1733" y="1314"/>
                  <a:pt x="1552" y="1308"/>
                </a:cubicBezTo>
                <a:cubicBezTo>
                  <a:pt x="1523" y="1307"/>
                  <a:pt x="1475" y="1262"/>
                  <a:pt x="1443" y="1254"/>
                </a:cubicBezTo>
                <a:cubicBezTo>
                  <a:pt x="1389" y="1241"/>
                  <a:pt x="1335" y="1234"/>
                  <a:pt x="1280" y="1220"/>
                </a:cubicBezTo>
                <a:cubicBezTo>
                  <a:pt x="1002" y="1149"/>
                  <a:pt x="707" y="1216"/>
                  <a:pt x="420" y="1214"/>
                </a:cubicBezTo>
                <a:cubicBezTo>
                  <a:pt x="315" y="1187"/>
                  <a:pt x="277" y="1078"/>
                  <a:pt x="189" y="1024"/>
                </a:cubicBezTo>
                <a:cubicBezTo>
                  <a:pt x="167" y="989"/>
                  <a:pt x="183" y="1007"/>
                  <a:pt x="135" y="976"/>
                </a:cubicBezTo>
                <a:cubicBezTo>
                  <a:pt x="128" y="972"/>
                  <a:pt x="115" y="963"/>
                  <a:pt x="115" y="963"/>
                </a:cubicBezTo>
                <a:cubicBezTo>
                  <a:pt x="110" y="956"/>
                  <a:pt x="107" y="948"/>
                  <a:pt x="101" y="942"/>
                </a:cubicBezTo>
                <a:cubicBezTo>
                  <a:pt x="89" y="931"/>
                  <a:pt x="61" y="915"/>
                  <a:pt x="61" y="915"/>
                </a:cubicBezTo>
                <a:cubicBezTo>
                  <a:pt x="36" y="879"/>
                  <a:pt x="13" y="857"/>
                  <a:pt x="0" y="814"/>
                </a:cubicBezTo>
                <a:cubicBezTo>
                  <a:pt x="2" y="782"/>
                  <a:pt x="1" y="750"/>
                  <a:pt x="6" y="719"/>
                </a:cubicBezTo>
                <a:cubicBezTo>
                  <a:pt x="13" y="678"/>
                  <a:pt x="94" y="643"/>
                  <a:pt x="128" y="631"/>
                </a:cubicBezTo>
                <a:cubicBezTo>
                  <a:pt x="169" y="590"/>
                  <a:pt x="126" y="625"/>
                  <a:pt x="176" y="604"/>
                </a:cubicBezTo>
                <a:cubicBezTo>
                  <a:pt x="200" y="594"/>
                  <a:pt x="195" y="584"/>
                  <a:pt x="217" y="570"/>
                </a:cubicBezTo>
                <a:cubicBezTo>
                  <a:pt x="282" y="527"/>
                  <a:pt x="379" y="514"/>
                  <a:pt x="454" y="502"/>
                </a:cubicBezTo>
                <a:cubicBezTo>
                  <a:pt x="587" y="481"/>
                  <a:pt x="717" y="445"/>
                  <a:pt x="854" y="441"/>
                </a:cubicBezTo>
                <a:cubicBezTo>
                  <a:pt x="1003" y="437"/>
                  <a:pt x="1152" y="436"/>
                  <a:pt x="1301" y="434"/>
                </a:cubicBezTo>
                <a:cubicBezTo>
                  <a:pt x="1337" y="411"/>
                  <a:pt x="1400" y="395"/>
                  <a:pt x="1443" y="380"/>
                </a:cubicBezTo>
                <a:cubicBezTo>
                  <a:pt x="1451" y="377"/>
                  <a:pt x="1482" y="371"/>
                  <a:pt x="1491" y="366"/>
                </a:cubicBezTo>
                <a:cubicBezTo>
                  <a:pt x="1555" y="330"/>
                  <a:pt x="1506" y="345"/>
                  <a:pt x="1558" y="333"/>
                </a:cubicBezTo>
                <a:cubicBezTo>
                  <a:pt x="1615" y="298"/>
                  <a:pt x="1667" y="268"/>
                  <a:pt x="1734" y="258"/>
                </a:cubicBezTo>
                <a:cubicBezTo>
                  <a:pt x="1808" y="221"/>
                  <a:pt x="1885" y="174"/>
                  <a:pt x="1965" y="150"/>
                </a:cubicBezTo>
                <a:cubicBezTo>
                  <a:pt x="1988" y="134"/>
                  <a:pt x="2005" y="129"/>
                  <a:pt x="2033" y="123"/>
                </a:cubicBezTo>
                <a:cubicBezTo>
                  <a:pt x="2074" y="94"/>
                  <a:pt x="2118" y="94"/>
                  <a:pt x="2168" y="89"/>
                </a:cubicBezTo>
                <a:cubicBezTo>
                  <a:pt x="2446" y="32"/>
                  <a:pt x="2724" y="34"/>
                  <a:pt x="3008" y="28"/>
                </a:cubicBezTo>
                <a:cubicBezTo>
                  <a:pt x="3145" y="0"/>
                  <a:pt x="3502" y="33"/>
                  <a:pt x="3591" y="34"/>
                </a:cubicBezTo>
                <a:cubicBezTo>
                  <a:pt x="3702" y="42"/>
                  <a:pt x="3805" y="74"/>
                  <a:pt x="3917" y="82"/>
                </a:cubicBezTo>
                <a:cubicBezTo>
                  <a:pt x="3943" y="91"/>
                  <a:pt x="3998" y="102"/>
                  <a:pt x="3998" y="102"/>
                </a:cubicBezTo>
                <a:cubicBezTo>
                  <a:pt x="4031" y="125"/>
                  <a:pt x="4069" y="129"/>
                  <a:pt x="4106" y="143"/>
                </a:cubicBezTo>
                <a:cubicBezTo>
                  <a:pt x="4177" y="169"/>
                  <a:pt x="4240" y="195"/>
                  <a:pt x="4316" y="204"/>
                </a:cubicBezTo>
                <a:cubicBezTo>
                  <a:pt x="4364" y="216"/>
                  <a:pt x="4404" y="246"/>
                  <a:pt x="4452" y="258"/>
                </a:cubicBezTo>
                <a:cubicBezTo>
                  <a:pt x="4496" y="289"/>
                  <a:pt x="4559" y="292"/>
                  <a:pt x="4608" y="319"/>
                </a:cubicBezTo>
                <a:cubicBezTo>
                  <a:pt x="4639" y="336"/>
                  <a:pt x="4670" y="370"/>
                  <a:pt x="4696" y="394"/>
                </a:cubicBezTo>
                <a:cubicBezTo>
                  <a:pt x="4722" y="418"/>
                  <a:pt x="4745" y="443"/>
                  <a:pt x="4770" y="468"/>
                </a:cubicBezTo>
                <a:cubicBezTo>
                  <a:pt x="4781" y="479"/>
                  <a:pt x="4793" y="491"/>
                  <a:pt x="4804" y="502"/>
                </a:cubicBezTo>
                <a:cubicBezTo>
                  <a:pt x="4813" y="511"/>
                  <a:pt x="4831" y="529"/>
                  <a:pt x="4831" y="529"/>
                </a:cubicBezTo>
                <a:cubicBezTo>
                  <a:pt x="4836" y="543"/>
                  <a:pt x="4840" y="556"/>
                  <a:pt x="4845" y="570"/>
                </a:cubicBezTo>
                <a:cubicBezTo>
                  <a:pt x="4847" y="577"/>
                  <a:pt x="4852" y="590"/>
                  <a:pt x="4852" y="590"/>
                </a:cubicBezTo>
                <a:cubicBezTo>
                  <a:pt x="4856" y="633"/>
                  <a:pt x="4870" y="676"/>
                  <a:pt x="4872" y="719"/>
                </a:cubicBezTo>
                <a:cubicBezTo>
                  <a:pt x="4875" y="788"/>
                  <a:pt x="4862" y="855"/>
                  <a:pt x="4852" y="922"/>
                </a:cubicBezTo>
                <a:cubicBezTo>
                  <a:pt x="4847" y="957"/>
                  <a:pt x="4856" y="1011"/>
                  <a:pt x="4818" y="1024"/>
                </a:cubicBezTo>
                <a:cubicBezTo>
                  <a:pt x="4804" y="1063"/>
                  <a:pt x="4748" y="1077"/>
                  <a:pt x="4709" y="1085"/>
                </a:cubicBezTo>
                <a:cubicBezTo>
                  <a:pt x="4656" y="1123"/>
                  <a:pt x="4681" y="1113"/>
                  <a:pt x="4642" y="1125"/>
                </a:cubicBezTo>
                <a:cubicBezTo>
                  <a:pt x="4608" y="1147"/>
                  <a:pt x="4571" y="1153"/>
                  <a:pt x="4533" y="1166"/>
                </a:cubicBezTo>
                <a:cubicBezTo>
                  <a:pt x="4521" y="1184"/>
                  <a:pt x="4513" y="1198"/>
                  <a:pt x="4513" y="12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67057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 rot="21553200">
            <a:off x="60955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3044400">
            <a:off x="39463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1600200"/>
            <a:ext cx="1371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53280" y="4572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53280" y="4191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153280" y="3809880"/>
            <a:ext cx="46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429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3048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153280" y="27432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153280" y="23623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153280" y="20574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8098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67057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 rot="21553200">
            <a:off x="60955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3044400">
            <a:off x="39463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81680" y="2209680"/>
            <a:ext cx="914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38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40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42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44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46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4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50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052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054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 of ______ states that Sediments are deposited in flat horizonta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ock layers are missing in the geologic record we call it an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 of ____  ____   relationships states that A fault line or an igneous intrusion must be younger than the rock it cuts acr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62920" y="2514600"/>
            <a:ext cx="1676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cu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165800" y="2209680"/>
            <a:ext cx="1756080" cy="221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scientists know the earth is 4.6 billion years ol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hook up 100 pennies in a box, how many do you think would be heads????  How many do you think would be tails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Absolut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ill how scientists use absolute dating to determine the exact age of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concept of  half life and radioactiv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olute Rock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the earth is 4.6 billion years 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when dinosaurs l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fully, we can answer those questions by using Absolute 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Absolute Dating is a method used by geologists to determine the age of a rock or fos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nalyzing the properties of atoms in rocks and fossils we can get a really accurate date for when the rock or fossil fo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0" dur="indefinite" restart="never" nodeType="tmRoot">
          <p:childTnLst>
            <p:seq>
              <p:cTn id="1101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5" dur="1858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bsolute D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Absolute Dating is a method used by geologists to determine the exact _____ of a rock or fos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It is different from relative dating because it gives an exact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1981080"/>
            <a:ext cx="160020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205740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ctive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Radioactive Decay: The decay of an atom of one element to form another element, an example would be when uranium becomes l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arbon 14 become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after uranium-238 loses two protons and neutrons it becomes Lead- 206 which is stable and no longe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447920" y="4202280"/>
            <a:ext cx="5943600" cy="26557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80880" y="3962520"/>
            <a:ext cx="1371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3962520"/>
            <a:ext cx="1371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adioactive Dec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e decay of an atom of one element into another 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ex. uranium becomes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943600" cy="26557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7315200" y="2514600"/>
            <a:ext cx="1600200" cy="22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259092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 and Daughter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43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xample of Uranium and Lead, which one is the Parent material and which one is the daughter mate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nium becomes Lead and is therefore the parent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is the stable daughter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rcRect l="58983" t="0" r="0" b="0"/>
          <a:stretch/>
        </p:blipFill>
        <p:spPr>
          <a:xfrm>
            <a:off x="6553080" y="4876920"/>
            <a:ext cx="2019600" cy="21985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rcRect l="0" t="0" r="0" b="42313"/>
          <a:stretch/>
        </p:blipFill>
        <p:spPr>
          <a:xfrm>
            <a:off x="6324480" y="1828800"/>
            <a:ext cx="2438640" cy="27432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6248520" y="13716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400800" y="45720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ughter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Half life is the time it takes for half of the of the parent material to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if I had one pound of Uranium it would take 4.5 billion years for half of it to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we would only have half of what we started with after 4.5 billion years have pa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would we have after another 4.5 billion years have pas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how scientists use relative dating techniques to put geologic events in 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how to apply the laws of geolog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he law horizontality, law of superposition, law of cross-cutting relationship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alf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Half life is the time it takes for half of the of the parent material to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Example: 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3505320"/>
            <a:ext cx="1600200" cy="22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81680" y="3581280"/>
            <a:ext cx="1676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thinks they understand half-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r" descr=""/>
          <p:cNvPicPr/>
          <p:nvPr/>
        </p:nvPicPr>
        <p:blipFill>
          <a:blip r:embed="rId1"/>
          <a:stretch/>
        </p:blipFill>
        <p:spPr>
          <a:xfrm>
            <a:off x="0" y="1447920"/>
            <a:ext cx="3929040" cy="50292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9880" y="159984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What is the half life of uranium-23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ccording to this diagram, how much uranium remains after 4.5 Billion years? L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After 9 billion years, how much uranium is left?  L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01400" y="-1600200"/>
            <a:ext cx="82296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0"/>
            <a:ext cx="129528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666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524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80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666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952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524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380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666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238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524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80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666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952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380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752480" y="167652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574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146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288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5146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288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0574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146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7432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0574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432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38080" y="220968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0" y="0"/>
                </a:moveTo>
                <a:cubicBezTo>
                  <a:pt x="56" y="104"/>
                  <a:pt x="112" y="208"/>
                  <a:pt x="192" y="336"/>
                </a:cubicBezTo>
                <a:cubicBezTo>
                  <a:pt x="272" y="464"/>
                  <a:pt x="392" y="648"/>
                  <a:pt x="480" y="768"/>
                </a:cubicBezTo>
                <a:cubicBezTo>
                  <a:pt x="568" y="888"/>
                  <a:pt x="664" y="992"/>
                  <a:pt x="720" y="1056"/>
                </a:cubicBezTo>
                <a:cubicBezTo>
                  <a:pt x="776" y="1120"/>
                  <a:pt x="800" y="1136"/>
                  <a:pt x="816" y="1152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838080" y="1295280"/>
            <a:ext cx="38124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429000" y="3886200"/>
            <a:ext cx="38088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724280" y="4495680"/>
            <a:ext cx="609840" cy="9144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095880" y="5105160"/>
            <a:ext cx="762120" cy="53316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7391520" y="5181480"/>
            <a:ext cx="914400" cy="5335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4038480"/>
            <a:ext cx="1295280" cy="914400"/>
          </a:xfrm>
          <a:custGeom>
            <a:avLst/>
            <a:gdLst/>
            <a:ahLst/>
            <a:rect l="l" t="t" r="r" b="b"/>
            <a:pathLst>
              <a:path w="816" h="576">
                <a:moveTo>
                  <a:pt x="0" y="0"/>
                </a:moveTo>
                <a:cubicBezTo>
                  <a:pt x="50" y="44"/>
                  <a:pt x="185" y="179"/>
                  <a:pt x="298" y="266"/>
                </a:cubicBezTo>
                <a:cubicBezTo>
                  <a:pt x="411" y="353"/>
                  <a:pt x="594" y="471"/>
                  <a:pt x="680" y="523"/>
                </a:cubicBezTo>
                <a:cubicBezTo>
                  <a:pt x="766" y="575"/>
                  <a:pt x="788" y="565"/>
                  <a:pt x="816" y="576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74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22860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2209680"/>
            <a:ext cx="0" cy="3810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38080" y="6019920"/>
            <a:ext cx="6705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248520" y="2286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rent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72200" y="838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0800" y="838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daughter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43600" y="1371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life = 50,000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3408600">
            <a:off x="647280" y="308556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33720" y="2971800"/>
            <a:ext cx="30456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0400" y="2590920"/>
            <a:ext cx="129528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339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053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339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28954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2767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505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911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505320" y="3352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339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1911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767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053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3581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911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057400" y="2286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2257200">
            <a:off x="1904760" y="434304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48120" y="1676520"/>
            <a:ext cx="259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724280" y="320040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292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578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48640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150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006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029200" y="3505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2578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715000" y="3505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292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2578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962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150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006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578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4864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150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5053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2767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7339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7339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95680" y="24382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429000" y="495288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cubicBezTo>
                  <a:pt x="49" y="24"/>
                  <a:pt x="188" y="101"/>
                  <a:pt x="292" y="141"/>
                </a:cubicBezTo>
                <a:cubicBezTo>
                  <a:pt x="396" y="181"/>
                  <a:pt x="537" y="215"/>
                  <a:pt x="624" y="240"/>
                </a:cubicBezTo>
                <a:cubicBezTo>
                  <a:pt x="711" y="265"/>
                  <a:pt x="784" y="280"/>
                  <a:pt x="816" y="288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31240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.5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5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72200" y="3809880"/>
            <a:ext cx="1295280" cy="129564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2485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9343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629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2485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7712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16292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7057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934320" y="4343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1629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2485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4771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7057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9343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29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2485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4771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7057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4800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5410080"/>
            <a:ext cx="1371600" cy="239760"/>
          </a:xfrm>
          <a:custGeom>
            <a:avLst/>
            <a:gdLst/>
            <a:ahLst/>
            <a:rect l="l" t="t" r="r" b="b"/>
            <a:pathLst>
              <a:path w="864" h="151">
                <a:moveTo>
                  <a:pt x="0" y="0"/>
                </a:moveTo>
                <a:cubicBezTo>
                  <a:pt x="56" y="16"/>
                  <a:pt x="112" y="31"/>
                  <a:pt x="192" y="48"/>
                </a:cubicBezTo>
                <a:cubicBezTo>
                  <a:pt x="272" y="65"/>
                  <a:pt x="384" y="86"/>
                  <a:pt x="480" y="102"/>
                </a:cubicBezTo>
                <a:cubicBezTo>
                  <a:pt x="576" y="118"/>
                  <a:pt x="704" y="137"/>
                  <a:pt x="768" y="144"/>
                </a:cubicBezTo>
                <a:cubicBezTo>
                  <a:pt x="832" y="151"/>
                  <a:pt x="848" y="144"/>
                  <a:pt x="864" y="144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388620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0010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2296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4582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6868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7724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0010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2296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4582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6868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7724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0010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2296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82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6868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7724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0010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2296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4582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6868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724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0010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2296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4582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868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72200" y="5638680"/>
            <a:ext cx="1219320" cy="76320"/>
          </a:xfrm>
          <a:custGeom>
            <a:avLst/>
            <a:gdLst/>
            <a:ahLst/>
            <a:rect l="l" t="t" r="r" b="b"/>
            <a:pathLst>
              <a:path w="768" h="48">
                <a:moveTo>
                  <a:pt x="0" y="0"/>
                </a:moveTo>
                <a:cubicBezTo>
                  <a:pt x="64" y="6"/>
                  <a:pt x="257" y="28"/>
                  <a:pt x="385" y="36"/>
                </a:cubicBezTo>
                <a:cubicBezTo>
                  <a:pt x="513" y="44"/>
                  <a:pt x="688" y="46"/>
                  <a:pt x="768" y="48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01992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3152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13372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42900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2428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9588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8080" y="3124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39152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62320" y="632448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Half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38080" y="40384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38080" y="49528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16200000">
            <a:off x="-1599840" y="38098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Parent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" y="2895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2280" y="1905120"/>
            <a:ext cx="83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" y="38098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52280" y="4724280"/>
            <a:ext cx="838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202400">
            <a:off x="3276360" y="510516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629400">
            <a:off x="4648320" y="54100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19920" y="55627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8108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276720" y="6019920"/>
            <a:ext cx="304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9436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23888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8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5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3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33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3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33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3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3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35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5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35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5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8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467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68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470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71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7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7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476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77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7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8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mph" presetID="1" presetSubtype="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482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83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8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5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3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58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mph" presetID="1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1586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58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mph" presetID="1" presetSubtype="2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1589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590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8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1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692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mph" presetID="1" presetSubtype="2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1694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695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0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6" dur="8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792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ld vs. Young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Uranium half life to measure the age of the earth, which is ve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how would we measure something that is younger, like tree rings or artifacts from an ancient 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rbon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 a radioactive form of carbon) has a half-life of 5,730 years, we can use it to date rocks that are much younger (unlike uranium, which has a half-life of 4.5 billion year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5,730 years Carbon-14 will decay into stable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geologist who studies rocks in order figure out earth’s history, these radioactive elements that decay are like a clock ticking away, keeping track of time since that’s passed since earth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Radiometric Dating: A dating method that uses the rate of decay of radioactive atoms in rocks by the amount of parent and daughter product to determine the absolute age of a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adiometric D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624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Dating method that uses the rate of decay of radioactive atoms in rocks by the amount of parent and daughter product to _____ the absolute age of a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010280" y="2133720"/>
            <a:ext cx="1600200" cy="22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2209680"/>
            <a:ext cx="1676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0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6933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following scenario to complete the answer below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piece of coa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made of carbon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rom a cave man’s fire is found to have about 50%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rbon-1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50%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itrog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 The half life of Carbon-14 is 573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 is the _____ material and Nitrogen is the _____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veman’s coal and fire is ______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’s use _____dating to determine the absolute ____of rocks and foss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15200" y="380880"/>
            <a:ext cx="160020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162920" y="45720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2971800"/>
            <a:ext cx="24386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895480" y="3048120"/>
            <a:ext cx="2514600" cy="685800"/>
          </a:xfrm>
          <a:prstGeom prst="rightArrow">
            <a:avLst>
              <a:gd name="adj1" fmla="val 54167"/>
              <a:gd name="adj2" fmla="val 11410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730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486400" y="2971800"/>
            <a:ext cx="16002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086600" y="2971800"/>
            <a:ext cx="1600200" cy="838080"/>
          </a:xfrm>
          <a:prstGeom prst="rect">
            <a:avLst/>
          </a:prstGeom>
          <a:solidFill>
            <a:srgbClr val="dede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fill="hold">
                      <p:stCondLst>
                        <p:cond delay="0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you think all the oxygen in our atmosphere ca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 you think Humans have on this planet for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the age of the earth 4.6 BYO, When do you think life first appeared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Geologic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major geologic events that have transformed our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geologic time scale and it’s major di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0880" y="1143000"/>
            <a:ext cx="4953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ological time scale is the geologic history of the planet from formation to the pres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 starts with large divisions of time called eons and is subdivided into successively smaller units such ass eras and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ologic time scale  is based on dominant lifeforms, and mass extinction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ologic Tim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rcRect l="0" t="0" r="46250" b="0"/>
          <a:stretch/>
        </p:blipFill>
        <p:spPr>
          <a:xfrm>
            <a:off x="6041880" y="914400"/>
            <a:ext cx="27212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0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380880" y="2133720"/>
            <a:ext cx="784836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cept of dating rocks by putting geologic event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does not give an exact age of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8854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40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08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3616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483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854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01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1240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76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808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8854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1240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304920" y="2108160"/>
            <a:ext cx="7739280" cy="2036880"/>
          </a:xfrm>
          <a:custGeom>
            <a:avLst/>
            <a:gdLst/>
            <a:ahLst/>
            <a:rect l="l" t="t" r="r" b="b"/>
            <a:pathLst>
              <a:path w="4875" h="1283">
                <a:moveTo>
                  <a:pt x="4513" y="1188"/>
                </a:moveTo>
                <a:cubicBezTo>
                  <a:pt x="4204" y="1241"/>
                  <a:pt x="4132" y="1186"/>
                  <a:pt x="3903" y="1127"/>
                </a:cubicBezTo>
                <a:cubicBezTo>
                  <a:pt x="3425" y="1140"/>
                  <a:pt x="2964" y="1157"/>
                  <a:pt x="2480" y="1161"/>
                </a:cubicBezTo>
                <a:cubicBezTo>
                  <a:pt x="2438" y="1190"/>
                  <a:pt x="2482" y="1165"/>
                  <a:pt x="2399" y="1182"/>
                </a:cubicBezTo>
                <a:cubicBezTo>
                  <a:pt x="2378" y="1186"/>
                  <a:pt x="2359" y="1196"/>
                  <a:pt x="2338" y="1202"/>
                </a:cubicBezTo>
                <a:cubicBezTo>
                  <a:pt x="2295" y="1214"/>
                  <a:pt x="2340" y="1203"/>
                  <a:pt x="2283" y="1229"/>
                </a:cubicBezTo>
                <a:cubicBezTo>
                  <a:pt x="2224" y="1256"/>
                  <a:pt x="2156" y="1267"/>
                  <a:pt x="2094" y="1283"/>
                </a:cubicBezTo>
                <a:cubicBezTo>
                  <a:pt x="1913" y="1281"/>
                  <a:pt x="1733" y="1282"/>
                  <a:pt x="1552" y="1276"/>
                </a:cubicBezTo>
                <a:cubicBezTo>
                  <a:pt x="1523" y="1275"/>
                  <a:pt x="1475" y="1230"/>
                  <a:pt x="1443" y="1222"/>
                </a:cubicBezTo>
                <a:cubicBezTo>
                  <a:pt x="1389" y="1209"/>
                  <a:pt x="1335" y="1202"/>
                  <a:pt x="1280" y="1188"/>
                </a:cubicBezTo>
                <a:cubicBezTo>
                  <a:pt x="1002" y="1117"/>
                  <a:pt x="707" y="1184"/>
                  <a:pt x="420" y="1182"/>
                </a:cubicBezTo>
                <a:cubicBezTo>
                  <a:pt x="315" y="1155"/>
                  <a:pt x="277" y="1046"/>
                  <a:pt x="189" y="992"/>
                </a:cubicBezTo>
                <a:cubicBezTo>
                  <a:pt x="167" y="957"/>
                  <a:pt x="183" y="975"/>
                  <a:pt x="135" y="944"/>
                </a:cubicBezTo>
                <a:cubicBezTo>
                  <a:pt x="128" y="940"/>
                  <a:pt x="115" y="931"/>
                  <a:pt x="115" y="931"/>
                </a:cubicBezTo>
                <a:cubicBezTo>
                  <a:pt x="110" y="924"/>
                  <a:pt x="107" y="916"/>
                  <a:pt x="101" y="910"/>
                </a:cubicBezTo>
                <a:cubicBezTo>
                  <a:pt x="89" y="899"/>
                  <a:pt x="61" y="883"/>
                  <a:pt x="61" y="883"/>
                </a:cubicBezTo>
                <a:cubicBezTo>
                  <a:pt x="36" y="847"/>
                  <a:pt x="13" y="825"/>
                  <a:pt x="0" y="782"/>
                </a:cubicBezTo>
                <a:cubicBezTo>
                  <a:pt x="2" y="750"/>
                  <a:pt x="1" y="718"/>
                  <a:pt x="6" y="687"/>
                </a:cubicBezTo>
                <a:cubicBezTo>
                  <a:pt x="13" y="646"/>
                  <a:pt x="94" y="611"/>
                  <a:pt x="128" y="599"/>
                </a:cubicBezTo>
                <a:cubicBezTo>
                  <a:pt x="169" y="558"/>
                  <a:pt x="126" y="593"/>
                  <a:pt x="176" y="572"/>
                </a:cubicBezTo>
                <a:cubicBezTo>
                  <a:pt x="200" y="562"/>
                  <a:pt x="195" y="552"/>
                  <a:pt x="217" y="538"/>
                </a:cubicBezTo>
                <a:cubicBezTo>
                  <a:pt x="282" y="495"/>
                  <a:pt x="379" y="482"/>
                  <a:pt x="454" y="470"/>
                </a:cubicBezTo>
                <a:cubicBezTo>
                  <a:pt x="587" y="449"/>
                  <a:pt x="717" y="413"/>
                  <a:pt x="854" y="409"/>
                </a:cubicBezTo>
                <a:cubicBezTo>
                  <a:pt x="1003" y="405"/>
                  <a:pt x="1152" y="404"/>
                  <a:pt x="1301" y="402"/>
                </a:cubicBezTo>
                <a:cubicBezTo>
                  <a:pt x="1337" y="379"/>
                  <a:pt x="1400" y="363"/>
                  <a:pt x="1443" y="348"/>
                </a:cubicBezTo>
                <a:cubicBezTo>
                  <a:pt x="1451" y="345"/>
                  <a:pt x="1482" y="339"/>
                  <a:pt x="1491" y="334"/>
                </a:cubicBezTo>
                <a:cubicBezTo>
                  <a:pt x="1555" y="298"/>
                  <a:pt x="1506" y="313"/>
                  <a:pt x="1558" y="301"/>
                </a:cubicBezTo>
                <a:cubicBezTo>
                  <a:pt x="1615" y="266"/>
                  <a:pt x="1667" y="236"/>
                  <a:pt x="1734" y="226"/>
                </a:cubicBezTo>
                <a:cubicBezTo>
                  <a:pt x="1808" y="189"/>
                  <a:pt x="1885" y="142"/>
                  <a:pt x="1965" y="118"/>
                </a:cubicBezTo>
                <a:cubicBezTo>
                  <a:pt x="1988" y="102"/>
                  <a:pt x="2005" y="97"/>
                  <a:pt x="2033" y="91"/>
                </a:cubicBezTo>
                <a:cubicBezTo>
                  <a:pt x="2074" y="62"/>
                  <a:pt x="2118" y="62"/>
                  <a:pt x="2168" y="57"/>
                </a:cubicBezTo>
                <a:cubicBezTo>
                  <a:pt x="2446" y="0"/>
                  <a:pt x="2757" y="71"/>
                  <a:pt x="3041" y="65"/>
                </a:cubicBezTo>
                <a:cubicBezTo>
                  <a:pt x="3178" y="37"/>
                  <a:pt x="3512" y="49"/>
                  <a:pt x="3601" y="50"/>
                </a:cubicBezTo>
                <a:cubicBezTo>
                  <a:pt x="3712" y="58"/>
                  <a:pt x="3805" y="42"/>
                  <a:pt x="3917" y="50"/>
                </a:cubicBezTo>
                <a:cubicBezTo>
                  <a:pt x="3943" y="59"/>
                  <a:pt x="3998" y="70"/>
                  <a:pt x="3998" y="70"/>
                </a:cubicBezTo>
                <a:cubicBezTo>
                  <a:pt x="4031" y="93"/>
                  <a:pt x="4069" y="97"/>
                  <a:pt x="4106" y="111"/>
                </a:cubicBezTo>
                <a:cubicBezTo>
                  <a:pt x="4177" y="137"/>
                  <a:pt x="4240" y="163"/>
                  <a:pt x="4316" y="172"/>
                </a:cubicBezTo>
                <a:cubicBezTo>
                  <a:pt x="4364" y="184"/>
                  <a:pt x="4404" y="214"/>
                  <a:pt x="4452" y="226"/>
                </a:cubicBezTo>
                <a:cubicBezTo>
                  <a:pt x="4496" y="257"/>
                  <a:pt x="4559" y="260"/>
                  <a:pt x="4608" y="287"/>
                </a:cubicBezTo>
                <a:cubicBezTo>
                  <a:pt x="4639" y="304"/>
                  <a:pt x="4670" y="338"/>
                  <a:pt x="4696" y="362"/>
                </a:cubicBezTo>
                <a:cubicBezTo>
                  <a:pt x="4722" y="386"/>
                  <a:pt x="4745" y="411"/>
                  <a:pt x="4770" y="436"/>
                </a:cubicBezTo>
                <a:cubicBezTo>
                  <a:pt x="4781" y="447"/>
                  <a:pt x="4793" y="459"/>
                  <a:pt x="4804" y="470"/>
                </a:cubicBezTo>
                <a:cubicBezTo>
                  <a:pt x="4813" y="479"/>
                  <a:pt x="4831" y="497"/>
                  <a:pt x="4831" y="497"/>
                </a:cubicBezTo>
                <a:cubicBezTo>
                  <a:pt x="4836" y="511"/>
                  <a:pt x="4840" y="524"/>
                  <a:pt x="4845" y="538"/>
                </a:cubicBezTo>
                <a:cubicBezTo>
                  <a:pt x="4847" y="545"/>
                  <a:pt x="4852" y="558"/>
                  <a:pt x="4852" y="558"/>
                </a:cubicBezTo>
                <a:cubicBezTo>
                  <a:pt x="4856" y="601"/>
                  <a:pt x="4870" y="644"/>
                  <a:pt x="4872" y="687"/>
                </a:cubicBezTo>
                <a:cubicBezTo>
                  <a:pt x="4875" y="756"/>
                  <a:pt x="4862" y="823"/>
                  <a:pt x="4852" y="890"/>
                </a:cubicBezTo>
                <a:cubicBezTo>
                  <a:pt x="4847" y="925"/>
                  <a:pt x="4856" y="979"/>
                  <a:pt x="4818" y="992"/>
                </a:cubicBezTo>
                <a:cubicBezTo>
                  <a:pt x="4804" y="1031"/>
                  <a:pt x="4748" y="1045"/>
                  <a:pt x="4709" y="1053"/>
                </a:cubicBezTo>
                <a:cubicBezTo>
                  <a:pt x="4656" y="1091"/>
                  <a:pt x="4681" y="1081"/>
                  <a:pt x="4642" y="1093"/>
                </a:cubicBezTo>
                <a:cubicBezTo>
                  <a:pt x="4608" y="1115"/>
                  <a:pt x="4571" y="1121"/>
                  <a:pt x="4533" y="1134"/>
                </a:cubicBezTo>
                <a:cubicBezTo>
                  <a:pt x="4521" y="1152"/>
                  <a:pt x="4513" y="1166"/>
                  <a:pt x="4513" y="11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94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67057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21553200">
            <a:off x="54097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100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711680"/>
            <a:ext cx="3906720" cy="2146320"/>
          </a:xfrm>
          <a:custGeom>
            <a:avLst/>
            <a:gdLst/>
            <a:ahLst/>
            <a:rect l="l" t="t" r="r" b="b"/>
            <a:pathLst>
              <a:path w="2461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49" y="920"/>
                  <a:pt x="2088" y="872"/>
                </a:cubicBezTo>
                <a:cubicBezTo>
                  <a:pt x="2127" y="824"/>
                  <a:pt x="2221" y="806"/>
                  <a:pt x="2273" y="727"/>
                </a:cubicBezTo>
                <a:cubicBezTo>
                  <a:pt x="2325" y="648"/>
                  <a:pt x="2461" y="502"/>
                  <a:pt x="2401" y="398"/>
                </a:cubicBezTo>
                <a:cubicBezTo>
                  <a:pt x="2341" y="294"/>
                  <a:pt x="2046" y="147"/>
                  <a:pt x="1914" y="106"/>
                </a:cubicBezTo>
                <a:cubicBezTo>
                  <a:pt x="1782" y="65"/>
                  <a:pt x="1723" y="152"/>
                  <a:pt x="1608" y="152"/>
                </a:cubicBezTo>
                <a:cubicBezTo>
                  <a:pt x="1493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715000"/>
            <a:ext cx="2206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3192000">
            <a:off x="3641760" y="5273640"/>
            <a:ext cx="2233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5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6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6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6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69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7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7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 rot="16200000">
            <a:off x="7467480" y="22935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ologic Tim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 major time eras includ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eans and atmospher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brates, plants and fish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mmals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4781520" y="8629560"/>
            <a:ext cx="4152960" cy="1067040"/>
          </a:xfrm>
          <a:prstGeom prst="rect">
            <a:avLst/>
          </a:prstGeom>
          <a:solidFill>
            <a:srgbClr val="800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cam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 rot="16200000">
            <a:off x="7356600" y="7502400"/>
            <a:ext cx="1247760" cy="117792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 rot="16200000">
            <a:off x="7043760" y="9415080"/>
            <a:ext cx="1476360" cy="93348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8534520" y="762012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Water and Atmosph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534520" y="1188720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Plants, fish, and invertebrat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534520" y="1600200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Repti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4781520" y="12820680"/>
            <a:ext cx="4152960" cy="1067040"/>
          </a:xfrm>
          <a:prstGeom prst="rect">
            <a:avLst/>
          </a:prstGeom>
          <a:solidFill>
            <a:srgbClr val="80808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e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4781520" y="17011440"/>
            <a:ext cx="4152960" cy="1067040"/>
          </a:xfrm>
          <a:prstGeom prst="rect">
            <a:avLst/>
          </a:prstGeom>
          <a:solidFill>
            <a:srgbClr val="008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s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6200000">
            <a:off x="4781520" y="21202560"/>
            <a:ext cx="4152960" cy="1067040"/>
          </a:xfrm>
          <a:prstGeom prst="rect">
            <a:avLst/>
          </a:prstGeom>
          <a:solidFill>
            <a:srgbClr val="0066ff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en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4"/>
          <a:stretch/>
        </p:blipFill>
        <p:spPr>
          <a:xfrm rot="16200000">
            <a:off x="7687440" y="13191120"/>
            <a:ext cx="911160" cy="119844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 rot="17314200">
            <a:off x="7436160" y="12451320"/>
            <a:ext cx="1257480" cy="58572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6"/>
          <a:stretch/>
        </p:blipFill>
        <p:spPr>
          <a:xfrm rot="17623200">
            <a:off x="7329960" y="11567520"/>
            <a:ext cx="1067040" cy="639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7"/>
          <a:stretch/>
        </p:blipFill>
        <p:spPr>
          <a:xfrm rot="16200000">
            <a:off x="7687080" y="13953240"/>
            <a:ext cx="911520" cy="119844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8"/>
          <a:stretch/>
        </p:blipFill>
        <p:spPr>
          <a:xfrm rot="16200000">
            <a:off x="7520760" y="15872400"/>
            <a:ext cx="1266840" cy="7635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9"/>
          <a:stretch/>
        </p:blipFill>
        <p:spPr>
          <a:xfrm rot="16200000">
            <a:off x="7057080" y="16793280"/>
            <a:ext cx="1819440" cy="1455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10"/>
          <a:stretch/>
        </p:blipFill>
        <p:spPr>
          <a:xfrm rot="16200000">
            <a:off x="7532640" y="18146520"/>
            <a:ext cx="1131840" cy="141444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8534520" y="1996452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Mamma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1"/>
          <a:stretch/>
        </p:blipFill>
        <p:spPr>
          <a:xfrm rot="16200000">
            <a:off x="7195320" y="19898640"/>
            <a:ext cx="1828800" cy="1046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12"/>
          <a:stretch/>
        </p:blipFill>
        <p:spPr>
          <a:xfrm rot="16200000">
            <a:off x="7275240" y="21327840"/>
            <a:ext cx="1524240" cy="12351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13"/>
          <a:stretch/>
        </p:blipFill>
        <p:spPr>
          <a:xfrm rot="16200000">
            <a:off x="7562880" y="22155120"/>
            <a:ext cx="1047600" cy="12384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14"/>
          <a:srcRect l="0" t="0" r="46250" b="0"/>
          <a:stretch/>
        </p:blipFill>
        <p:spPr>
          <a:xfrm>
            <a:off x="6041880" y="914400"/>
            <a:ext cx="27212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1" dur="indefinite" restart="never" nodeType="tmRoot">
          <p:childTnLst>
            <p:seq>
              <p:cTn id="1832" dur="indefinite" nodeType="mainSeq">
                <p:childTnLst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36" dur="35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38" dur="35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40" dur="35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42" dur="35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44" dur="35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46" dur="35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48" dur="35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50" dur="35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52" dur="3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54" dur="35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56" dur="35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58" dur="35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60" dur="35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62" dur="35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64" dur="350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66" dur="35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68" dur="35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70" dur="35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72" dur="35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74" dur="35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76" dur="35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What is the Geologic Time Scal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6476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cale from the beginning of earth to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broken time divisions such as Eras, &amp; Periods that are based on the ____record, dominant life forms, and mass ____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-1905120"/>
            <a:ext cx="9296280" cy="6172200"/>
          </a:xfrm>
          <a:prstGeom prst="rect">
            <a:avLst/>
          </a:prstGeom>
          <a:gradFill rotWithShape="0">
            <a:gsLst>
              <a:gs pos="0">
                <a:srgbClr val="945c4a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19051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19051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5"/>
          <a:stretch/>
        </p:blipFill>
        <p:spPr>
          <a:xfrm>
            <a:off x="388620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6"/>
          <a:stretch/>
        </p:blipFill>
        <p:spPr>
          <a:xfrm>
            <a:off x="388620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7"/>
          <a:stretch/>
        </p:blipFill>
        <p:spPr>
          <a:xfrm>
            <a:off x="57913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8"/>
          <a:stretch/>
        </p:blipFill>
        <p:spPr>
          <a:xfrm>
            <a:off x="57913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9"/>
          <a:stretch/>
        </p:blipFill>
        <p:spPr>
          <a:xfrm>
            <a:off x="7696080" y="5297400"/>
            <a:ext cx="1981440" cy="15606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10"/>
          <a:stretch/>
        </p:blipFill>
        <p:spPr>
          <a:xfrm>
            <a:off x="7696080" y="4419720"/>
            <a:ext cx="1981440" cy="9144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0" y="4191120"/>
            <a:ext cx="9677520" cy="4724280"/>
          </a:xfrm>
          <a:prstGeom prst="rect">
            <a:avLst/>
          </a:prstGeom>
          <a:gradFill rotWithShape="0">
            <a:gsLst>
              <a:gs pos="0">
                <a:srgbClr val="0a0a0a"/>
              </a:gs>
              <a:gs pos="100000">
                <a:srgbClr val="333333">
                  <a:alpha val="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1"/>
          <a:stretch/>
        </p:blipFill>
        <p:spPr>
          <a:xfrm>
            <a:off x="9677520" y="-8380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2"/>
          <a:stretch/>
        </p:blipFill>
        <p:spPr>
          <a:xfrm flipH="1">
            <a:off x="-1676880" y="-1523880"/>
            <a:ext cx="1543320" cy="118728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-1752480" y="4114800"/>
            <a:ext cx="11277360" cy="380988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3">
            <a:lum bright="-30000"/>
          </a:blip>
          <a:stretch/>
        </p:blipFill>
        <p:spPr>
          <a:xfrm>
            <a:off x="762120" y="2971800"/>
            <a:ext cx="1199880" cy="198108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4">
            <a:lum bright="-30000"/>
          </a:blip>
          <a:stretch/>
        </p:blipFill>
        <p:spPr>
          <a:xfrm>
            <a:off x="6248520" y="3124080"/>
            <a:ext cx="830160" cy="137160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2209680" y="685800"/>
            <a:ext cx="3733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as a harsh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eorites bombarded our ea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volcanoes spewed out g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5">
            <a:lum bright="-30000"/>
          </a:blip>
          <a:stretch/>
        </p:blipFill>
        <p:spPr>
          <a:xfrm>
            <a:off x="8001000" y="2514600"/>
            <a:ext cx="1704960" cy="281952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1371600" y="60948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oceans slowly formed over millions of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volcanoes released s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of these gases was steam or (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6"/>
          <a:stretch/>
        </p:blipFill>
        <p:spPr>
          <a:xfrm>
            <a:off x="6172200" y="5335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6629400" y="-152280"/>
            <a:ext cx="2286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6 billion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r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58128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58128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65760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5760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58128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73392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676520" y="53352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as what our planet was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billion years--90% of earth’s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ientists call this period the Precambr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-1981080" y="9753480"/>
            <a:ext cx="1981080" cy="1905120"/>
          </a:xfrm>
          <a:prstGeom prst="flowChartSummingJunction">
            <a:avLst/>
          </a:pr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10550400">
            <a:off x="-1751760" y="853452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696080" y="685800"/>
            <a:ext cx="1417680" cy="2878200"/>
          </a:xfrm>
          <a:custGeom>
            <a:avLst/>
            <a:gdLst/>
            <a:ahLst/>
            <a:rect l="l" t="t" r="r" b="b"/>
            <a:pathLst>
              <a:path w="893" h="1813">
                <a:moveTo>
                  <a:pt x="48" y="1008"/>
                </a:moveTo>
                <a:cubicBezTo>
                  <a:pt x="49" y="826"/>
                  <a:pt x="50" y="306"/>
                  <a:pt x="54" y="153"/>
                </a:cubicBezTo>
                <a:cubicBezTo>
                  <a:pt x="58" y="0"/>
                  <a:pt x="25" y="88"/>
                  <a:pt x="72" y="87"/>
                </a:cubicBezTo>
                <a:cubicBezTo>
                  <a:pt x="119" y="86"/>
                  <a:pt x="236" y="103"/>
                  <a:pt x="336" y="144"/>
                </a:cubicBezTo>
                <a:cubicBezTo>
                  <a:pt x="436" y="185"/>
                  <a:pt x="584" y="240"/>
                  <a:pt x="672" y="336"/>
                </a:cubicBezTo>
                <a:cubicBezTo>
                  <a:pt x="760" y="432"/>
                  <a:pt x="835" y="585"/>
                  <a:pt x="864" y="720"/>
                </a:cubicBezTo>
                <a:cubicBezTo>
                  <a:pt x="893" y="855"/>
                  <a:pt x="889" y="1017"/>
                  <a:pt x="848" y="1150"/>
                </a:cubicBezTo>
                <a:cubicBezTo>
                  <a:pt x="807" y="1283"/>
                  <a:pt x="709" y="1422"/>
                  <a:pt x="619" y="1515"/>
                </a:cubicBezTo>
                <a:cubicBezTo>
                  <a:pt x="529" y="1608"/>
                  <a:pt x="405" y="1669"/>
                  <a:pt x="309" y="1710"/>
                </a:cubicBezTo>
                <a:cubicBezTo>
                  <a:pt x="213" y="1751"/>
                  <a:pt x="90" y="1758"/>
                  <a:pt x="45" y="1761"/>
                </a:cubicBezTo>
                <a:cubicBezTo>
                  <a:pt x="0" y="1764"/>
                  <a:pt x="39" y="1813"/>
                  <a:pt x="39" y="1728"/>
                </a:cubicBezTo>
                <a:cubicBezTo>
                  <a:pt x="39" y="1643"/>
                  <a:pt x="46" y="1368"/>
                  <a:pt x="48" y="1248"/>
                </a:cubicBezTo>
                <a:cubicBezTo>
                  <a:pt x="50" y="1128"/>
                  <a:pt x="48" y="1192"/>
                  <a:pt x="48" y="100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469200" y="1224000"/>
            <a:ext cx="1450800" cy="2301840"/>
          </a:xfrm>
          <a:custGeom>
            <a:avLst/>
            <a:gdLst/>
            <a:ahLst/>
            <a:rect l="l" t="t" r="r" b="b"/>
            <a:pathLst>
              <a:path w="914" h="1450">
                <a:moveTo>
                  <a:pt x="806" y="1407"/>
                </a:moveTo>
                <a:cubicBezTo>
                  <a:pt x="800" y="1450"/>
                  <a:pt x="808" y="1413"/>
                  <a:pt x="779" y="1410"/>
                </a:cubicBezTo>
                <a:cubicBezTo>
                  <a:pt x="750" y="1407"/>
                  <a:pt x="694" y="1409"/>
                  <a:pt x="629" y="1389"/>
                </a:cubicBezTo>
                <a:cubicBezTo>
                  <a:pt x="564" y="1369"/>
                  <a:pt x="455" y="1330"/>
                  <a:pt x="389" y="1293"/>
                </a:cubicBezTo>
                <a:cubicBezTo>
                  <a:pt x="323" y="1256"/>
                  <a:pt x="272" y="1207"/>
                  <a:pt x="230" y="1164"/>
                </a:cubicBezTo>
                <a:cubicBezTo>
                  <a:pt x="188" y="1121"/>
                  <a:pt x="163" y="1077"/>
                  <a:pt x="137" y="1038"/>
                </a:cubicBezTo>
                <a:cubicBezTo>
                  <a:pt x="111" y="999"/>
                  <a:pt x="95" y="973"/>
                  <a:pt x="76" y="930"/>
                </a:cubicBezTo>
                <a:cubicBezTo>
                  <a:pt x="57" y="887"/>
                  <a:pt x="35" y="847"/>
                  <a:pt x="23" y="780"/>
                </a:cubicBezTo>
                <a:cubicBezTo>
                  <a:pt x="11" y="713"/>
                  <a:pt x="0" y="615"/>
                  <a:pt x="5" y="525"/>
                </a:cubicBezTo>
                <a:cubicBezTo>
                  <a:pt x="10" y="435"/>
                  <a:pt x="26" y="315"/>
                  <a:pt x="53" y="237"/>
                </a:cubicBezTo>
                <a:cubicBezTo>
                  <a:pt x="80" y="159"/>
                  <a:pt x="143" y="89"/>
                  <a:pt x="167" y="57"/>
                </a:cubicBezTo>
                <a:cubicBezTo>
                  <a:pt x="191" y="25"/>
                  <a:pt x="182" y="38"/>
                  <a:pt x="197" y="45"/>
                </a:cubicBezTo>
                <a:cubicBezTo>
                  <a:pt x="212" y="52"/>
                  <a:pt x="153" y="0"/>
                  <a:pt x="257" y="96"/>
                </a:cubicBezTo>
                <a:cubicBezTo>
                  <a:pt x="361" y="192"/>
                  <a:pt x="728" y="534"/>
                  <a:pt x="821" y="621"/>
                </a:cubicBezTo>
                <a:cubicBezTo>
                  <a:pt x="914" y="708"/>
                  <a:pt x="818" y="597"/>
                  <a:pt x="818" y="621"/>
                </a:cubicBezTo>
                <a:cubicBezTo>
                  <a:pt x="818" y="645"/>
                  <a:pt x="821" y="677"/>
                  <a:pt x="821" y="765"/>
                </a:cubicBezTo>
                <a:cubicBezTo>
                  <a:pt x="821" y="853"/>
                  <a:pt x="819" y="1042"/>
                  <a:pt x="816" y="1149"/>
                </a:cubicBezTo>
                <a:cubicBezTo>
                  <a:pt x="813" y="1256"/>
                  <a:pt x="812" y="1365"/>
                  <a:pt x="806" y="14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7772400" y="838080"/>
            <a:ext cx="0" cy="1447920"/>
          </a:xfrm>
          <a:prstGeom prst="line">
            <a:avLst/>
          </a:prstGeom>
          <a:ln w="57240">
            <a:solidFill>
              <a:srgbClr val="29292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86600" y="22860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523880" y="609480"/>
            <a:ext cx="40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ring the Precambri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oceans and atmosphere form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ong with other importan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600200" y="53352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am cooled and condensed into clou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clouds Released precipitation (rain)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lions of years, eventually forming our oc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7"/>
          <a:stretch/>
        </p:blipFill>
        <p:spPr>
          <a:xfrm>
            <a:off x="3276720" y="2438280"/>
            <a:ext cx="1295280" cy="103824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18"/>
          <a:stretch/>
        </p:blipFill>
        <p:spPr>
          <a:xfrm>
            <a:off x="838080" y="2438280"/>
            <a:ext cx="1219320" cy="97812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19"/>
          <a:stretch/>
        </p:blipFill>
        <p:spPr>
          <a:xfrm>
            <a:off x="1600200" y="1828800"/>
            <a:ext cx="1905120" cy="183204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0"/>
          <a:stretch/>
        </p:blipFill>
        <p:spPr>
          <a:xfrm>
            <a:off x="4114800" y="1828800"/>
            <a:ext cx="1940040" cy="213660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21"/>
          <a:stretch/>
        </p:blipFill>
        <p:spPr>
          <a:xfrm>
            <a:off x="2590920" y="1905120"/>
            <a:ext cx="2631960" cy="434340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-1447920" y="-1981080"/>
            <a:ext cx="10972800" cy="883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22"/>
          <a:stretch/>
        </p:blipFill>
        <p:spPr>
          <a:xfrm>
            <a:off x="99072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1676520" y="-457200"/>
            <a:ext cx="5257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Welcome to Ea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4.6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3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7" dur="3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0" dur="3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23699E-006 L -1.25313 0.59654 E">
                                      <p:cBhvr>
                                        <p:cTn id="1913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5" dur="2000" fill="hold"/>
                                        <p:tgtEl>
                                          <p:spTgt spid="771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916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104 0.00231 L 1.29792 0.50404 E">
                                      <p:cBhvr>
                                        <p:cTn id="1917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8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9" dur="2000" fill="hold"/>
                                        <p:tgtEl>
                                          <p:spTgt spid="77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3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3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3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5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mph" presetID="35" repeatCount="3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4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2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5607E-007 C -0.00191 -0.10497 -0.00469 -0.20948 0.00885 -0.27584 C 0.0224 -0.3422 0.06649 -0.37272 0.0816 -0.39815 E">
                                      <p:cBhvr>
                                        <p:cTn id="1969" dur="1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5607E-007 C 0.00086 -0.09457 0.0033 -0.18983 -0.00764 -0.25734 C -0.01858 -0.32486 -0.05348 -0.37387 -0.06563 -0.40462 E">
                                      <p:cBhvr>
                                        <p:cTn id="1972" dur="1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5607E-007 C -0.00781 -0.05295 -0.01527 -0.10566 -0.01267 -0.14428 C -0.01007 -0.18358 0.01459 -0.20069 0.01615 -0.23399 C 0.01771 -0.26728 0.00018 -0.31538 -0.00295 -0.34335 C -0.00607 -0.37133 -0.00295 -0.39029 -0.00295 -0.40254 E">
                                      <p:cBhvr>
                                        <p:cTn id="1975" dur="1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9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3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5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8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1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3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3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3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3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3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-1905120"/>
            <a:ext cx="9296280" cy="6172200"/>
          </a:xfrm>
          <a:prstGeom prst="rect">
            <a:avLst/>
          </a:prstGeom>
          <a:gradFill rotWithShape="0">
            <a:gsLst>
              <a:gs pos="0">
                <a:srgbClr val="945c4a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19051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4"/>
          <a:stretch/>
        </p:blipFill>
        <p:spPr>
          <a:xfrm>
            <a:off x="19051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5"/>
          <a:stretch/>
        </p:blipFill>
        <p:spPr>
          <a:xfrm>
            <a:off x="388620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6"/>
          <a:stretch/>
        </p:blipFill>
        <p:spPr>
          <a:xfrm>
            <a:off x="388620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7"/>
          <a:stretch/>
        </p:blipFill>
        <p:spPr>
          <a:xfrm>
            <a:off x="57913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8"/>
          <a:stretch/>
        </p:blipFill>
        <p:spPr>
          <a:xfrm>
            <a:off x="57913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9"/>
          <a:stretch/>
        </p:blipFill>
        <p:spPr>
          <a:xfrm>
            <a:off x="7696080" y="5297400"/>
            <a:ext cx="1981440" cy="15606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10"/>
          <a:stretch/>
        </p:blipFill>
        <p:spPr>
          <a:xfrm>
            <a:off x="7696080" y="4419720"/>
            <a:ext cx="1981440" cy="9144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0" y="4191120"/>
            <a:ext cx="9372600" cy="4724280"/>
          </a:xfrm>
          <a:prstGeom prst="rect">
            <a:avLst/>
          </a:prstGeom>
          <a:gradFill rotWithShape="0">
            <a:gsLst>
              <a:gs pos="0">
                <a:srgbClr val="0a0a0a"/>
              </a:gs>
              <a:gs pos="100000">
                <a:srgbClr val="333333">
                  <a:alpha val="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-762120" y="4191120"/>
            <a:ext cx="10134720" cy="373356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1">
            <a:lum bright="-30000"/>
          </a:blip>
          <a:stretch/>
        </p:blipFill>
        <p:spPr>
          <a:xfrm>
            <a:off x="914400" y="297180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12">
            <a:lum bright="-30000"/>
          </a:blip>
          <a:stretch/>
        </p:blipFill>
        <p:spPr>
          <a:xfrm>
            <a:off x="6248520" y="3124080"/>
            <a:ext cx="830160" cy="13716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13">
            <a:lum bright="-30000"/>
          </a:blip>
          <a:stretch/>
        </p:blipFill>
        <p:spPr>
          <a:xfrm>
            <a:off x="8001000" y="2514600"/>
            <a:ext cx="1704960" cy="28195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14"/>
          <a:stretch/>
        </p:blipFill>
        <p:spPr>
          <a:xfrm>
            <a:off x="6172200" y="5335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6629400" y="-228600"/>
            <a:ext cx="2286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6 billion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r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81280" y="48006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5320" y="47242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581280" y="47242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-1981080" y="9753480"/>
            <a:ext cx="1981080" cy="1905120"/>
          </a:xfrm>
          <a:prstGeom prst="flowChartSummingJunction">
            <a:avLst/>
          </a:pr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10550400">
            <a:off x="-1751760" y="853452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726320" y="685800"/>
            <a:ext cx="1417680" cy="2878200"/>
          </a:xfrm>
          <a:custGeom>
            <a:avLst/>
            <a:gdLst/>
            <a:ahLst/>
            <a:rect l="l" t="t" r="r" b="b"/>
            <a:pathLst>
              <a:path w="893" h="1813">
                <a:moveTo>
                  <a:pt x="48" y="1008"/>
                </a:moveTo>
                <a:cubicBezTo>
                  <a:pt x="49" y="826"/>
                  <a:pt x="50" y="306"/>
                  <a:pt x="54" y="153"/>
                </a:cubicBezTo>
                <a:cubicBezTo>
                  <a:pt x="58" y="0"/>
                  <a:pt x="25" y="88"/>
                  <a:pt x="72" y="87"/>
                </a:cubicBezTo>
                <a:cubicBezTo>
                  <a:pt x="119" y="86"/>
                  <a:pt x="236" y="103"/>
                  <a:pt x="336" y="144"/>
                </a:cubicBezTo>
                <a:cubicBezTo>
                  <a:pt x="436" y="185"/>
                  <a:pt x="584" y="240"/>
                  <a:pt x="672" y="336"/>
                </a:cubicBezTo>
                <a:cubicBezTo>
                  <a:pt x="760" y="432"/>
                  <a:pt x="835" y="585"/>
                  <a:pt x="864" y="720"/>
                </a:cubicBezTo>
                <a:cubicBezTo>
                  <a:pt x="893" y="855"/>
                  <a:pt x="889" y="1017"/>
                  <a:pt x="848" y="1150"/>
                </a:cubicBezTo>
                <a:cubicBezTo>
                  <a:pt x="807" y="1283"/>
                  <a:pt x="709" y="1422"/>
                  <a:pt x="619" y="1515"/>
                </a:cubicBezTo>
                <a:cubicBezTo>
                  <a:pt x="529" y="1608"/>
                  <a:pt x="405" y="1669"/>
                  <a:pt x="309" y="1710"/>
                </a:cubicBezTo>
                <a:cubicBezTo>
                  <a:pt x="213" y="1751"/>
                  <a:pt x="90" y="1758"/>
                  <a:pt x="45" y="1761"/>
                </a:cubicBezTo>
                <a:cubicBezTo>
                  <a:pt x="0" y="1764"/>
                  <a:pt x="39" y="1813"/>
                  <a:pt x="39" y="1728"/>
                </a:cubicBezTo>
                <a:cubicBezTo>
                  <a:pt x="39" y="1643"/>
                  <a:pt x="46" y="1368"/>
                  <a:pt x="48" y="1248"/>
                </a:cubicBezTo>
                <a:cubicBezTo>
                  <a:pt x="50" y="1128"/>
                  <a:pt x="48" y="1192"/>
                  <a:pt x="48" y="100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477120" y="1216080"/>
            <a:ext cx="1479600" cy="2343240"/>
          </a:xfrm>
          <a:custGeom>
            <a:avLst/>
            <a:gdLst/>
            <a:ahLst/>
            <a:rect l="l" t="t" r="r" b="b"/>
            <a:pathLst>
              <a:path w="932" h="1476">
                <a:moveTo>
                  <a:pt x="826" y="1434"/>
                </a:moveTo>
                <a:cubicBezTo>
                  <a:pt x="817" y="1476"/>
                  <a:pt x="812" y="1419"/>
                  <a:pt x="779" y="1412"/>
                </a:cubicBezTo>
                <a:cubicBezTo>
                  <a:pt x="746" y="1405"/>
                  <a:pt x="694" y="1411"/>
                  <a:pt x="629" y="1391"/>
                </a:cubicBezTo>
                <a:cubicBezTo>
                  <a:pt x="564" y="1371"/>
                  <a:pt x="455" y="1332"/>
                  <a:pt x="389" y="1295"/>
                </a:cubicBezTo>
                <a:cubicBezTo>
                  <a:pt x="323" y="1258"/>
                  <a:pt x="272" y="1209"/>
                  <a:pt x="230" y="1166"/>
                </a:cubicBezTo>
                <a:cubicBezTo>
                  <a:pt x="188" y="1123"/>
                  <a:pt x="163" y="1079"/>
                  <a:pt x="137" y="1040"/>
                </a:cubicBezTo>
                <a:cubicBezTo>
                  <a:pt x="111" y="1001"/>
                  <a:pt x="95" y="975"/>
                  <a:pt x="76" y="932"/>
                </a:cubicBezTo>
                <a:cubicBezTo>
                  <a:pt x="57" y="889"/>
                  <a:pt x="35" y="849"/>
                  <a:pt x="23" y="782"/>
                </a:cubicBezTo>
                <a:cubicBezTo>
                  <a:pt x="11" y="715"/>
                  <a:pt x="0" y="617"/>
                  <a:pt x="5" y="527"/>
                </a:cubicBezTo>
                <a:cubicBezTo>
                  <a:pt x="10" y="437"/>
                  <a:pt x="26" y="317"/>
                  <a:pt x="53" y="239"/>
                </a:cubicBezTo>
                <a:cubicBezTo>
                  <a:pt x="80" y="161"/>
                  <a:pt x="143" y="91"/>
                  <a:pt x="167" y="59"/>
                </a:cubicBezTo>
                <a:cubicBezTo>
                  <a:pt x="191" y="27"/>
                  <a:pt x="182" y="40"/>
                  <a:pt x="197" y="47"/>
                </a:cubicBezTo>
                <a:cubicBezTo>
                  <a:pt x="212" y="54"/>
                  <a:pt x="150" y="0"/>
                  <a:pt x="257" y="98"/>
                </a:cubicBezTo>
                <a:cubicBezTo>
                  <a:pt x="364" y="196"/>
                  <a:pt x="746" y="546"/>
                  <a:pt x="839" y="633"/>
                </a:cubicBezTo>
                <a:cubicBezTo>
                  <a:pt x="932" y="720"/>
                  <a:pt x="819" y="602"/>
                  <a:pt x="818" y="623"/>
                </a:cubicBezTo>
                <a:cubicBezTo>
                  <a:pt x="817" y="644"/>
                  <a:pt x="832" y="669"/>
                  <a:pt x="835" y="758"/>
                </a:cubicBezTo>
                <a:cubicBezTo>
                  <a:pt x="838" y="847"/>
                  <a:pt x="837" y="1047"/>
                  <a:pt x="835" y="1160"/>
                </a:cubicBezTo>
                <a:cubicBezTo>
                  <a:pt x="833" y="1273"/>
                  <a:pt x="835" y="1392"/>
                  <a:pt x="826" y="1434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7772400" y="838080"/>
            <a:ext cx="0" cy="1447920"/>
          </a:xfrm>
          <a:prstGeom prst="line">
            <a:avLst/>
          </a:prstGeom>
          <a:ln w="57240">
            <a:solidFill>
              <a:srgbClr val="29292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086600" y="22860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5"/>
          <a:stretch/>
        </p:blipFill>
        <p:spPr>
          <a:xfrm>
            <a:off x="2666880" y="1905120"/>
            <a:ext cx="2362320" cy="43434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1371600" y="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ther gas given off by volcan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Carbon Dioxide (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066680" y="7621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microscopic phytoplank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sorbed 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volcanoes and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tosynthesis released Oxygen (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o our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066680" y="3808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ther important event dur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mbrian was the appea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first single celled forms o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447920" y="3808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phytoplankton were very impor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cause they helped create an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ch atmosphere for life to thri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3808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2 billion years ago, primitive micr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gle celled forms of life ca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toplankton began to fill the oce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219320" y="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ember the rec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hotosynthesi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562720" y="38862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905120" y="2590920"/>
            <a:ext cx="2286000" cy="83808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9929600">
            <a:off x="3584160" y="2870280"/>
            <a:ext cx="1363680" cy="1676160"/>
          </a:xfrm>
          <a:custGeom>
            <a:avLst/>
            <a:gdLst>
              <a:gd name="textAreaLeft" fmla="*/ 0 w 1363680"/>
              <a:gd name="textAreaRight" fmla="*/ 1364040 w 13636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55072"/>
                <a:lnTo>
                  <a:pt x="17110" y="2035"/>
                </a:lnTo>
                <a:arcTo wR="10800" hR="10800" stAng="-3255072" swAng="325507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777777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962520" y="1905120"/>
            <a:ext cx="2133360" cy="8380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9625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62720" y="4038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 rot="8685000">
            <a:off x="4570560" y="2666160"/>
            <a:ext cx="1523880" cy="1676520"/>
          </a:xfrm>
          <a:custGeom>
            <a:avLst/>
            <a:gdLst>
              <a:gd name="textAreaLeft" fmla="*/ -360 w 1523880"/>
              <a:gd name="textAreaRight" fmla="*/ 1523880 w 15238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55072"/>
                <a:lnTo>
                  <a:pt x="17110" y="2035"/>
                </a:lnTo>
                <a:arcTo wR="10800" hR="10800" stAng="-3255072" swAng="325507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143000" y="7621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Oxygen fill our atmospher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kies eventually became B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961200" y="2129760"/>
            <a:ext cx="6505920" cy="4728240"/>
            <a:chOff x="961200" y="2129760"/>
            <a:chExt cx="6505920" cy="4728240"/>
          </a:xfrm>
        </p:grpSpPr>
        <p:pic>
          <p:nvPicPr>
            <p:cNvPr id="848" name="" descr=""/>
            <p:cNvPicPr/>
            <p:nvPr/>
          </p:nvPicPr>
          <p:blipFill>
            <a:blip r:embed="rId16"/>
            <a:srcRect l="0" t="0" r="42003" b="49643"/>
            <a:stretch/>
          </p:blipFill>
          <p:spPr>
            <a:xfrm rot="20371200">
              <a:off x="1371240" y="2610000"/>
              <a:ext cx="327636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17"/>
            <a:stretch/>
          </p:blipFill>
          <p:spPr>
            <a:xfrm>
              <a:off x="4419360" y="3828960"/>
              <a:ext cx="30286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>
              <a:off x="4267080" y="3753000"/>
              <a:ext cx="3200040" cy="2895480"/>
            </a:xfrm>
            <a:prstGeom prst="donut">
              <a:avLst>
                <a:gd name="adj" fmla="val 8300"/>
              </a:avLst>
            </a:prstGeom>
            <a:gradFill rotWithShape="0">
              <a:gsLst>
                <a:gs pos="0">
                  <a:srgbClr val="4b4b4b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08" dur="indefinite" restart="never" nodeType="tmRoot">
          <p:childTnLst>
            <p:seq>
              <p:cTn id="2009" dur="indefinite" nodeType="mainSeq">
                <p:childTnLst>
                  <p:par>
                    <p:cTn id="2010" fill="hold">
                      <p:stCondLst>
                        <p:cond delay="0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2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2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2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2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1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0" dur="1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1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2" dur="1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4 -0.00486 C -0.01823 -0.03076 -0.00486 -0.11376 -0.00539 -0.16047 C -0.00591 -0.20717 -0.02049 -0.25919 -0.02448 -0.28509 E">
                                      <p:cBhvr>
                                        <p:cTn id="2055" dur="2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58382E-006 C -0.00104 -0.05873 0.01858 -0.12324 -0.00764 -0.1711 C -0.03385 -0.21896 -0.12604 -0.26289 -0.15729 -0.28717 E">
                                      <p:cBhvr>
                                        <p:cTn id="2057" dur="2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4.68208E-006 C -0.00122 -0.02612 0.00833 -0.10682 -0.00695 -0.15676 C -0.02223 -0.2067 -0.07361 -0.27052 -0.09115 -0.30034 E">
                                      <p:cBhvr>
                                        <p:cTn id="2059" dur="2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33333E-006 4.50867E-006 C -0.00816 -0.0259 -0.02378 -0.11145 -0.04913 -0.15469 C -0.07448 -0.19792 -0.1309 -0.23815 -0.15243 -0.26012 E">
                                      <p:cBhvr>
                                        <p:cTn id="2084" dur="20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2.02312E-006 C -0.00486 -0.05757 -0.02118 -0.11052 -0.03489 -0.15861 C -0.04861 -0.2067 -0.07257 -0.26173 -0.08246 -0.28878 E">
                                      <p:cBhvr>
                                        <p:cTn id="2086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3.75723E-006 C -0.00486 -0.05757 -0.0342 -0.11237 -0.03489 -0.15861 C -0.03559 -0.20485 -0.01093 -0.25294 -0.00468 -0.27768 E">
                                      <p:cBhvr>
                                        <p:cTn id="2088" dur="20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0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8" dur="1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9" dur="1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1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1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1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1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9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set>
                                      <p:cBhvr>
                                        <p:cTn id="2120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id our atmosphere become rich in oxyg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6095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itive phytoplankton and algae bacteria called stromatolites released oxygen into our atmosphere through _____ about 2 by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0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7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4410000" y="2133720"/>
            <a:ext cx="1990800" cy="3962160"/>
          </a:xfrm>
          <a:custGeom>
            <a:avLst/>
            <a:gdLst/>
            <a:ahLst/>
            <a:rect l="l" t="t" r="r" b="b"/>
            <a:pathLst>
              <a:path w="1254" h="2496">
                <a:moveTo>
                  <a:pt x="73" y="1388"/>
                </a:moveTo>
                <a:cubicBezTo>
                  <a:pt x="74" y="1137"/>
                  <a:pt x="76" y="421"/>
                  <a:pt x="81" y="211"/>
                </a:cubicBezTo>
                <a:cubicBezTo>
                  <a:pt x="87" y="0"/>
                  <a:pt x="42" y="126"/>
                  <a:pt x="107" y="120"/>
                </a:cubicBezTo>
                <a:cubicBezTo>
                  <a:pt x="172" y="114"/>
                  <a:pt x="330" y="119"/>
                  <a:pt x="470" y="176"/>
                </a:cubicBezTo>
                <a:cubicBezTo>
                  <a:pt x="610" y="233"/>
                  <a:pt x="821" y="327"/>
                  <a:pt x="945" y="463"/>
                </a:cubicBezTo>
                <a:cubicBezTo>
                  <a:pt x="1069" y="599"/>
                  <a:pt x="1173" y="805"/>
                  <a:pt x="1213" y="991"/>
                </a:cubicBezTo>
                <a:cubicBezTo>
                  <a:pt x="1254" y="1177"/>
                  <a:pt x="1247" y="1399"/>
                  <a:pt x="1191" y="1583"/>
                </a:cubicBezTo>
                <a:cubicBezTo>
                  <a:pt x="1135" y="1767"/>
                  <a:pt x="997" y="1967"/>
                  <a:pt x="878" y="2096"/>
                </a:cubicBezTo>
                <a:cubicBezTo>
                  <a:pt x="759" y="2225"/>
                  <a:pt x="613" y="2305"/>
                  <a:pt x="478" y="2360"/>
                </a:cubicBezTo>
                <a:cubicBezTo>
                  <a:pt x="343" y="2415"/>
                  <a:pt x="138" y="2421"/>
                  <a:pt x="69" y="2424"/>
                </a:cubicBezTo>
                <a:cubicBezTo>
                  <a:pt x="0" y="2427"/>
                  <a:pt x="61" y="2496"/>
                  <a:pt x="61" y="2379"/>
                </a:cubicBezTo>
                <a:cubicBezTo>
                  <a:pt x="61" y="2262"/>
                  <a:pt x="70" y="1883"/>
                  <a:pt x="73" y="1718"/>
                </a:cubicBezTo>
                <a:cubicBezTo>
                  <a:pt x="76" y="1553"/>
                  <a:pt x="73" y="1641"/>
                  <a:pt x="73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666880" y="2971800"/>
            <a:ext cx="2109960" cy="3106800"/>
          </a:xfrm>
          <a:custGeom>
            <a:avLst/>
            <a:gdLst/>
            <a:ahLst/>
            <a:rect l="l" t="t" r="r" b="b"/>
            <a:pathLst>
              <a:path w="1329" h="1957">
                <a:moveTo>
                  <a:pt x="1162" y="1899"/>
                </a:moveTo>
                <a:cubicBezTo>
                  <a:pt x="1152" y="1957"/>
                  <a:pt x="1155" y="1909"/>
                  <a:pt x="1099" y="1899"/>
                </a:cubicBezTo>
                <a:cubicBezTo>
                  <a:pt x="1043" y="1889"/>
                  <a:pt x="914" y="1870"/>
                  <a:pt x="824" y="1840"/>
                </a:cubicBezTo>
                <a:cubicBezTo>
                  <a:pt x="734" y="1810"/>
                  <a:pt x="642" y="1765"/>
                  <a:pt x="561" y="1716"/>
                </a:cubicBezTo>
                <a:cubicBezTo>
                  <a:pt x="480" y="1667"/>
                  <a:pt x="396" y="1602"/>
                  <a:pt x="337" y="1545"/>
                </a:cubicBezTo>
                <a:cubicBezTo>
                  <a:pt x="278" y="1488"/>
                  <a:pt x="243" y="1430"/>
                  <a:pt x="205" y="1378"/>
                </a:cubicBezTo>
                <a:cubicBezTo>
                  <a:pt x="169" y="1327"/>
                  <a:pt x="146" y="1292"/>
                  <a:pt x="119" y="1235"/>
                </a:cubicBezTo>
                <a:cubicBezTo>
                  <a:pt x="93" y="1178"/>
                  <a:pt x="63" y="1122"/>
                  <a:pt x="45" y="1036"/>
                </a:cubicBezTo>
                <a:cubicBezTo>
                  <a:pt x="26" y="950"/>
                  <a:pt x="0" y="840"/>
                  <a:pt x="7" y="720"/>
                </a:cubicBezTo>
                <a:cubicBezTo>
                  <a:pt x="15" y="600"/>
                  <a:pt x="47" y="424"/>
                  <a:pt x="87" y="317"/>
                </a:cubicBezTo>
                <a:cubicBezTo>
                  <a:pt x="128" y="210"/>
                  <a:pt x="215" y="121"/>
                  <a:pt x="248" y="78"/>
                </a:cubicBezTo>
                <a:cubicBezTo>
                  <a:pt x="282" y="36"/>
                  <a:pt x="270" y="53"/>
                  <a:pt x="290" y="62"/>
                </a:cubicBezTo>
                <a:cubicBezTo>
                  <a:pt x="311" y="72"/>
                  <a:pt x="224" y="0"/>
                  <a:pt x="376" y="130"/>
                </a:cubicBezTo>
                <a:cubicBezTo>
                  <a:pt x="526" y="260"/>
                  <a:pt x="1063" y="721"/>
                  <a:pt x="1196" y="839"/>
                </a:cubicBezTo>
                <a:cubicBezTo>
                  <a:pt x="1329" y="957"/>
                  <a:pt x="1178" y="806"/>
                  <a:pt x="1174" y="839"/>
                </a:cubicBezTo>
                <a:cubicBezTo>
                  <a:pt x="1171" y="872"/>
                  <a:pt x="1176" y="921"/>
                  <a:pt x="1174" y="1040"/>
                </a:cubicBezTo>
                <a:cubicBezTo>
                  <a:pt x="1172" y="1159"/>
                  <a:pt x="1164" y="1409"/>
                  <a:pt x="1162" y="1552"/>
                </a:cubicBezTo>
                <a:cubicBezTo>
                  <a:pt x="1160" y="1695"/>
                  <a:pt x="1172" y="1841"/>
                  <a:pt x="1162" y="1899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4572000" y="2361960"/>
            <a:ext cx="0" cy="19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733920" y="42670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53080" y="2438280"/>
            <a:ext cx="198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5943600" y="2971800"/>
            <a:ext cx="685800" cy="3808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629400" y="2971800"/>
            <a:ext cx="19051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858000" y="3657600"/>
            <a:ext cx="1752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715000" y="5257800"/>
            <a:ext cx="685800" cy="5335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00800" y="5791320"/>
            <a:ext cx="22096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629400" y="51055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ygen r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opshere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6095880" y="3657240"/>
            <a:ext cx="762120" cy="228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705720" y="3124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ed form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a50021"/>
                </a:solidFill>
                <a:latin typeface="Arial Black"/>
              </a:rPr>
              <a:t>Precambria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2362320" y="4800240"/>
            <a:ext cx="761760" cy="3049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28600" y="5105520"/>
            <a:ext cx="21337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880" y="4495680"/>
            <a:ext cx="198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odinia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2590560" y="5181480"/>
            <a:ext cx="685800" cy="4572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28600" y="5638680"/>
            <a:ext cx="23623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0880" y="5105520"/>
            <a:ext cx="1981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ul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ed form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4800600" y="1828440"/>
            <a:ext cx="152280" cy="685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952880" y="1828800"/>
            <a:ext cx="37339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76920" y="137160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5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on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1" dur="indefinite" restart="never" nodeType="tmRoot">
          <p:childTnLst>
            <p:seq>
              <p:cTn id="2132" dur="indefinite" nodeType="mainSeq">
                <p:childTnLst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7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500"/>
                            </p:stCondLst>
                            <p:childTnLst>
                              <p:par>
                                <p:cTn id="2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4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500"/>
                            </p:stCondLst>
                            <p:childTnLst>
                              <p:par>
                                <p:cTn id="2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500"/>
                            </p:stCondLst>
                            <p:childTnLst>
                              <p:par>
                                <p:cTn id="2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500"/>
                            </p:stCondLst>
                            <p:childTnLst>
                              <p:par>
                                <p:cTn id="2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500"/>
                            </p:stCondLst>
                            <p:childTnLst>
                              <p:par>
                                <p:cTn id="2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5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Precambria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624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8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ceans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5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st single celled forms of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____ rich atmosphere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3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st multi celled forms of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1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 continent Rhodinia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6" dur="indefinite" restart="never" nodeType="tmRoot">
          <p:childTnLst>
            <p:seq>
              <p:cTn id="2207" dur="indefinite" nodeType="mainSeq">
                <p:childTnLst>
                  <p:par>
                    <p:cTn id="2208" fill="hold">
                      <p:stCondLst>
                        <p:cond delay="0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0" y="0"/>
            <a:ext cx="9144000" cy="3124080"/>
          </a:xfrm>
          <a:prstGeom prst="rect">
            <a:avLst/>
          </a:prstGeom>
          <a:gradFill rotWithShape="0">
            <a:gsLst>
              <a:gs pos="0">
                <a:srgbClr val="9ebddb"/>
              </a:gs>
              <a:gs pos="100000">
                <a:srgbClr val="b9d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5181480" y="5486400"/>
            <a:ext cx="3962520" cy="137160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5181480" cy="137160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gradFill rotWithShape="0">
            <a:gsLst>
              <a:gs pos="0">
                <a:srgbClr val="050505"/>
              </a:gs>
              <a:gs pos="100000">
                <a:srgbClr val="5f5f5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7924680" y="3886200"/>
            <a:ext cx="990720" cy="170496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5"/>
          <a:stretch/>
        </p:blipFill>
        <p:spPr>
          <a:xfrm>
            <a:off x="9296280" y="4343400"/>
            <a:ext cx="1600200" cy="9586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514600" y="455436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121932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10667880" y="4114800"/>
            <a:ext cx="685800" cy="4176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9"/>
          <a:stretch/>
        </p:blipFill>
        <p:spPr>
          <a:xfrm>
            <a:off x="9144000" y="4114800"/>
            <a:ext cx="1066680" cy="639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10"/>
          <a:stretch/>
        </p:blipFill>
        <p:spPr>
          <a:xfrm>
            <a:off x="9677520" y="3886200"/>
            <a:ext cx="685800" cy="41112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11">
            <a:lum bright="-36000"/>
          </a:blip>
          <a:stretch/>
        </p:blipFill>
        <p:spPr>
          <a:xfrm rot="213000">
            <a:off x="10210320" y="4647960"/>
            <a:ext cx="838440" cy="511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0" y="3124080"/>
            <a:ext cx="9372600" cy="533520"/>
          </a:xfrm>
          <a:prstGeom prst="rect">
            <a:avLst/>
          </a:prstGeom>
          <a:gradFill rotWithShape="0">
            <a:gsLst>
              <a:gs pos="0">
                <a:srgbClr val="69b4ff">
                  <a:alpha val="87058"/>
                </a:srgbClr>
              </a:gs>
              <a:gs pos="100000">
                <a:srgbClr val="2540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2"/>
          <a:stretch/>
        </p:blipFill>
        <p:spPr>
          <a:xfrm rot="18714000">
            <a:off x="9419040" y="6066360"/>
            <a:ext cx="744480" cy="83808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13"/>
          <a:stretch/>
        </p:blipFill>
        <p:spPr>
          <a:xfrm rot="18713400">
            <a:off x="9938160" y="5758560"/>
            <a:ext cx="511200" cy="57600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14"/>
          <a:stretch/>
        </p:blipFill>
        <p:spPr>
          <a:xfrm>
            <a:off x="6400800" y="5257800"/>
            <a:ext cx="1295280" cy="124920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15"/>
          <a:stretch/>
        </p:blipFill>
        <p:spPr>
          <a:xfrm>
            <a:off x="3962520" y="4724280"/>
            <a:ext cx="990360" cy="170496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16"/>
          <a:stretch/>
        </p:blipFill>
        <p:spPr>
          <a:xfrm>
            <a:off x="304920" y="5246640"/>
            <a:ext cx="1295280" cy="124956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57200" y="205740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se animals included trilobi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monites (squid like creatures with sh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le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914400" y="9907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leozoic Era witnessed an explosion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2860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hallow seas covered most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6477120" y="304920"/>
            <a:ext cx="2743200" cy="2743200"/>
            <a:chOff x="6477120" y="304920"/>
            <a:chExt cx="2743200" cy="2743200"/>
          </a:xfrm>
        </p:grpSpPr>
        <p:pic>
          <p:nvPicPr>
            <p:cNvPr id="912" name="" descr=""/>
            <p:cNvPicPr/>
            <p:nvPr/>
          </p:nvPicPr>
          <p:blipFill>
            <a:blip r:embed="rId17"/>
            <a:stretch/>
          </p:blipFill>
          <p:spPr>
            <a:xfrm>
              <a:off x="6477120" y="304920"/>
              <a:ext cx="27432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7778880" y="444240"/>
              <a:ext cx="1208880" cy="241776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09320" y="947880"/>
              <a:ext cx="1198080" cy="190332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25320" y="583200"/>
              <a:ext cx="0" cy="1162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60560" y="1746360"/>
              <a:ext cx="111564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10120" y="648360"/>
              <a:ext cx="1106280" cy="1131480"/>
            </a:xfrm>
            <a:custGeom>
              <a:avLst/>
              <a:gdLst/>
              <a:ahLst/>
              <a:rect l="l" t="t" r="r" b="b"/>
              <a:pathLst>
                <a:path w="1142" h="1168">
                  <a:moveTo>
                    <a:pt x="1084" y="1139"/>
                  </a:moveTo>
                  <a:cubicBezTo>
                    <a:pt x="1026" y="1168"/>
                    <a:pt x="308" y="480"/>
                    <a:pt x="154" y="347"/>
                  </a:cubicBezTo>
                  <a:cubicBezTo>
                    <a:pt x="0" y="214"/>
                    <a:pt x="143" y="361"/>
                    <a:pt x="160" y="338"/>
                  </a:cubicBezTo>
                  <a:cubicBezTo>
                    <a:pt x="177" y="315"/>
                    <a:pt x="209" y="252"/>
                    <a:pt x="256" y="212"/>
                  </a:cubicBezTo>
                  <a:cubicBezTo>
                    <a:pt x="303" y="172"/>
                    <a:pt x="404" y="104"/>
                    <a:pt x="445" y="98"/>
                  </a:cubicBezTo>
                  <a:cubicBezTo>
                    <a:pt x="486" y="92"/>
                    <a:pt x="398" y="0"/>
                    <a:pt x="504" y="173"/>
                  </a:cubicBezTo>
                  <a:cubicBezTo>
                    <a:pt x="610" y="346"/>
                    <a:pt x="1142" y="1110"/>
                    <a:pt x="1084" y="1139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2876400">
              <a:off x="7081200" y="1095120"/>
              <a:ext cx="6508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228600" y="1219320"/>
            <a:ext cx="6095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out these shallow seas lived some of the first compl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s of life Including: invertebrates (shell fish), fish and pl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3657600"/>
            <a:ext cx="9448920" cy="304920"/>
          </a:xfrm>
          <a:prstGeom prst="rect">
            <a:avLst/>
          </a:prstGeom>
          <a:gradFill rotWithShape="0">
            <a:gsLst>
              <a:gs pos="0">
                <a:srgbClr val="25405b"/>
              </a:gs>
              <a:gs pos="100000">
                <a:srgbClr val="69b4ff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2224" dur="150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2226" dur="150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2228" dur="150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C -0.06944 -0.03171 -0.13819 -0.06528 -0.19861 -0.08518 C -0.25902 -0.10509 -0.32066 -0.11666 -0.3625 -0.11967 C -0.40434 -0.12268 -0.42934 -0.10416 -0.45 -0.10301 C -0.47066 -0.10185 -0.4717 -0.11088 -0.48611 -0.11227 C -0.50052 -0.11366 -0.51336 -0.10926 -0.53611 -0.11111 C -0.55885 -0.11296 -0.58472 -0.12708 -0.62222 -0.12407 C -0.65972 -0.12106 -0.71666 -0.09954 -0.76111 -0.09375 C -0.80555 -0.08796 -0.85173 -0.08588 -0.88923 -0.08889 C -0.92673 -0.0919 -0.92882 -0.11389 -0.98611 -0.11227 C -1.0434 -0.11065 -1.18177 -0.08634 -1.23333 -0.07963 E">
                                      <p:cBhvr>
                                        <p:cTn id="2230" dur="30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C -0.02674 -0.0081 -0.12431 -0.05069 -0.16059 -0.04838 C -0.19688 -0.04606 -0.20573 -0.000229999999999999 -0.21754 0.01459 C -0.22934 0.0294 -0.22257 0.03102 -0.23143 0.04051 C -0.24028 0.05 -0.2592 0.06459 -0.27032 0.07199 C -0.28143 0.0794 -0.28907 0.08241 -0.29861 0.08519 C -0.30816 0.08797 -0.30643 0.08889 -0.32778 0.08889 C -0.34913 0.08889 -0.40313 0.08773 -0.42726 0.08496 C -0.45139 0.08218 -0.46129 0.07871 -0.47309 0.07199 C -0.4849 0.06528 -0.48802 0.05857 -0.49809 0.04422 C -0.50816 0.02986 -0.50851 0.00209 -0.53334 -0.01481 C -0.55816 -0.03171 -0.61788 -0.0537 -0.6467 -0.05764 C -0.6757 -0.06157 -0.68663 -0.04745 -0.70782 -0.03912 C -0.729 -0.03078 -0.74983 -0.02152 -0.77361 -0.0074 C -0.7974 0.00672 -0.82431 0.04653 -0.85087 0.04607 C -0.87743 0.0456 -0.86511 0.01019 -0.93299 -0.00949 C -1.00087 -0.02916 -1.19045 -0.05902 -1.25834 -0.07222 E">
                                      <p:cBhvr>
                                        <p:cTn id="2232" dur="35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1401 -0.02963 -0.28003 -0.05903 -0.33194 -0.05741 C -0.38385 -0.05579 -0.30069 0.000229999999999999 -0.31111 0.00926 C -0.32153 0.01828 -0.36371 0.0074 -0.39444 -0.00371 C -0.42517 -0.01482 -0.47378 -0.05556 -0.49583 -0.05741 C -0.51788 -0.05926 -0.53038 -0.02894 -0.52639 -0.01482 C -0.52239 -0.000699999999999999 -0.45608 0.02708 -0.47222 0.02777 C -0.48837 0.02847 -0.58281 0.00069 -0.62361 -0.01111 C -0.66441 -0.02292 -0.69722 -0.04422 -0.71667 -0.0426 C -0.73611 -0.04098 -0.74514 -0.0176 -0.74028 -0.00185 C -0.73542 0.01389 -0.67969 0.04791 -0.6875 0.05185 C -0.69531 0.05578 -0.74236 0.03981 -0.7875 0.02222 C -0.83264 0.00463 -0.93073 -0.05533 -0.95833 -0.05371 C -0.98594 -0.05209 -0.94722 0.01782 -0.95278 0.03148 C -0.95833 0.04514 -0.92344 0.0456 -0.99167 0.02777 C -1.05989 0.00995 -1.30069 -0.05857 -1.3625 -0.07593 E">
                                      <p:cBhvr>
                                        <p:cTn id="2234" dur="220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C -0.1401 -0.02963 -0.28003 -0.05903 -0.33194 -0.05741 C -0.38385 -0.05579 -0.30069 0.000229999999999999 -0.31111 0.00926 C -0.32153 0.01828 -0.36371 0.0074 -0.39444 -0.00371 C -0.42517 -0.01482 -0.47378 -0.05556 -0.49583 -0.05741 C -0.51788 -0.05926 -0.53038 -0.02894 -0.52639 -0.01482 C -0.52239 -0.000699999999999999 -0.45608 0.02708 -0.47222 0.02777 C -0.48837 0.02847 -0.58281 0.00069 -0.62361 -0.01111 C -0.66441 -0.02292 -0.69722 -0.04422 -0.71667 -0.0426 C -0.73611 -0.04098 -0.74514 -0.0176 -0.74028 -0.00185 C -0.73542 0.01389 -0.67969 0.04791 -0.6875 0.05185 C -0.69531 0.05578 -0.74236 0.03981 -0.7875 0.02222 C -0.83264 0.00463 -0.93073 -0.05533 -0.95833 -0.05371 C -0.98594 -0.05209 -0.94722 0.01782 -0.95278 0.03148 C -0.95833 0.04514 -0.92344 0.0456 -0.99167 0.02777 C -1.05989 0.00995 -1.30069 -0.05857 -1.3625 -0.07593 E">
                                      <p:cBhvr>
                                        <p:cTn id="2236" dur="260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9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2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4495680" y="2057400"/>
            <a:ext cx="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6" dur="indefinite" restart="never" nodeType="tmRoot">
          <p:childTnLst>
            <p:seq>
              <p:cTn id="2247" dur="indefinite" nodeType="mainSeq">
                <p:childTnLst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930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4495680" y="2057400"/>
              <a:ext cx="0" cy="190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832120" y="2163600"/>
              <a:ext cx="1812960" cy="1854360"/>
            </a:xfrm>
            <a:custGeom>
              <a:avLst/>
              <a:gdLst/>
              <a:ahLst/>
              <a:rect l="l" t="t" r="r" b="b"/>
              <a:pathLst>
                <a:path w="1142" h="1168">
                  <a:moveTo>
                    <a:pt x="1084" y="1139"/>
                  </a:moveTo>
                  <a:cubicBezTo>
                    <a:pt x="1026" y="1168"/>
                    <a:pt x="308" y="480"/>
                    <a:pt x="154" y="347"/>
                  </a:cubicBezTo>
                  <a:cubicBezTo>
                    <a:pt x="0" y="214"/>
                    <a:pt x="143" y="361"/>
                    <a:pt x="160" y="338"/>
                  </a:cubicBezTo>
                  <a:cubicBezTo>
                    <a:pt x="177" y="315"/>
                    <a:pt x="209" y="252"/>
                    <a:pt x="256" y="212"/>
                  </a:cubicBezTo>
                  <a:cubicBezTo>
                    <a:pt x="303" y="172"/>
                    <a:pt x="404" y="104"/>
                    <a:pt x="445" y="98"/>
                  </a:cubicBezTo>
                  <a:cubicBezTo>
                    <a:pt x="486" y="92"/>
                    <a:pt x="398" y="0"/>
                    <a:pt x="504" y="173"/>
                  </a:cubicBezTo>
                  <a:cubicBezTo>
                    <a:pt x="610" y="346"/>
                    <a:pt x="1142" y="1110"/>
                    <a:pt x="1084" y="1139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H="1" flipV="1">
            <a:off x="5486400" y="4038120"/>
            <a:ext cx="838080" cy="7621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218960" y="4038480"/>
            <a:ext cx="42670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5334120" y="3428640"/>
            <a:ext cx="1218960" cy="10666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1219320" y="342900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5257800" y="2971800"/>
            <a:ext cx="1447920" cy="1371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219320" y="2971800"/>
            <a:ext cx="4038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9907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osion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371600" y="3124080"/>
            <a:ext cx="350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6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fish &amp; invertebrate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914400" y="266688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3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land plant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220968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2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ptile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H="1" flipV="1">
            <a:off x="5410080" y="2514240"/>
            <a:ext cx="1524240" cy="16002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218960" y="2514600"/>
            <a:ext cx="41907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5638680" y="1905120"/>
            <a:ext cx="1524240" cy="2133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990720" y="160020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5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ss Extinction 90% of al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1219320" y="1905120"/>
            <a:ext cx="44193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7" dur="indefinite" restart="never" nodeType="tmRoot">
          <p:childTnLst>
            <p:seq>
              <p:cTn id="2258" dur="indefinite" nodeType="mainSeq">
                <p:childTnLst>
                  <p:par>
                    <p:cTn id="2259" fill="hold">
                      <p:stCondLst>
                        <p:cond delay="0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2" dur="2000" fill="hold"/>
                                        <p:tgtEl>
                                          <p:spTgt spid="92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5.55556E-006 L 0.49167 0.44445 E">
                                      <p:cBhvr>
                                        <p:cTn id="2264" dur="20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6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2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2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500"/>
                            </p:stCondLst>
                            <p:childTnLst>
                              <p:par>
                                <p:cTn id="2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2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500"/>
                            </p:stCondLst>
                            <p:childTnLst>
                              <p:par>
                                <p:cTn id="2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80880" y="2133720"/>
            <a:ext cx="784836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cept of dating rocks by putting geologic event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does not give an exact age of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8854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240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08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3616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6483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854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01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1240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6476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808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8854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2600">
            <a:off x="38858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1240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04920" y="2108160"/>
            <a:ext cx="7739280" cy="2036880"/>
          </a:xfrm>
          <a:custGeom>
            <a:avLst/>
            <a:gdLst/>
            <a:ahLst/>
            <a:rect l="l" t="t" r="r" b="b"/>
            <a:pathLst>
              <a:path w="4875" h="1283">
                <a:moveTo>
                  <a:pt x="4513" y="1188"/>
                </a:moveTo>
                <a:cubicBezTo>
                  <a:pt x="4204" y="1241"/>
                  <a:pt x="4132" y="1186"/>
                  <a:pt x="3903" y="1127"/>
                </a:cubicBezTo>
                <a:cubicBezTo>
                  <a:pt x="3425" y="1140"/>
                  <a:pt x="2964" y="1157"/>
                  <a:pt x="2480" y="1161"/>
                </a:cubicBezTo>
                <a:cubicBezTo>
                  <a:pt x="2438" y="1190"/>
                  <a:pt x="2482" y="1165"/>
                  <a:pt x="2399" y="1182"/>
                </a:cubicBezTo>
                <a:cubicBezTo>
                  <a:pt x="2378" y="1186"/>
                  <a:pt x="2359" y="1196"/>
                  <a:pt x="2338" y="1202"/>
                </a:cubicBezTo>
                <a:cubicBezTo>
                  <a:pt x="2295" y="1214"/>
                  <a:pt x="2340" y="1203"/>
                  <a:pt x="2283" y="1229"/>
                </a:cubicBezTo>
                <a:cubicBezTo>
                  <a:pt x="2224" y="1256"/>
                  <a:pt x="2156" y="1267"/>
                  <a:pt x="2094" y="1283"/>
                </a:cubicBezTo>
                <a:cubicBezTo>
                  <a:pt x="1913" y="1281"/>
                  <a:pt x="1733" y="1282"/>
                  <a:pt x="1552" y="1276"/>
                </a:cubicBezTo>
                <a:cubicBezTo>
                  <a:pt x="1523" y="1275"/>
                  <a:pt x="1475" y="1230"/>
                  <a:pt x="1443" y="1222"/>
                </a:cubicBezTo>
                <a:cubicBezTo>
                  <a:pt x="1389" y="1209"/>
                  <a:pt x="1335" y="1202"/>
                  <a:pt x="1280" y="1188"/>
                </a:cubicBezTo>
                <a:cubicBezTo>
                  <a:pt x="1002" y="1117"/>
                  <a:pt x="707" y="1184"/>
                  <a:pt x="420" y="1182"/>
                </a:cubicBezTo>
                <a:cubicBezTo>
                  <a:pt x="315" y="1155"/>
                  <a:pt x="277" y="1046"/>
                  <a:pt x="189" y="992"/>
                </a:cubicBezTo>
                <a:cubicBezTo>
                  <a:pt x="167" y="957"/>
                  <a:pt x="183" y="975"/>
                  <a:pt x="135" y="944"/>
                </a:cubicBezTo>
                <a:cubicBezTo>
                  <a:pt x="128" y="940"/>
                  <a:pt x="115" y="931"/>
                  <a:pt x="115" y="931"/>
                </a:cubicBezTo>
                <a:cubicBezTo>
                  <a:pt x="110" y="924"/>
                  <a:pt x="107" y="916"/>
                  <a:pt x="101" y="910"/>
                </a:cubicBezTo>
                <a:cubicBezTo>
                  <a:pt x="89" y="899"/>
                  <a:pt x="61" y="883"/>
                  <a:pt x="61" y="883"/>
                </a:cubicBezTo>
                <a:cubicBezTo>
                  <a:pt x="36" y="847"/>
                  <a:pt x="13" y="825"/>
                  <a:pt x="0" y="782"/>
                </a:cubicBezTo>
                <a:cubicBezTo>
                  <a:pt x="2" y="750"/>
                  <a:pt x="1" y="718"/>
                  <a:pt x="6" y="687"/>
                </a:cubicBezTo>
                <a:cubicBezTo>
                  <a:pt x="13" y="646"/>
                  <a:pt x="94" y="611"/>
                  <a:pt x="128" y="599"/>
                </a:cubicBezTo>
                <a:cubicBezTo>
                  <a:pt x="169" y="558"/>
                  <a:pt x="126" y="593"/>
                  <a:pt x="176" y="572"/>
                </a:cubicBezTo>
                <a:cubicBezTo>
                  <a:pt x="200" y="562"/>
                  <a:pt x="195" y="552"/>
                  <a:pt x="217" y="538"/>
                </a:cubicBezTo>
                <a:cubicBezTo>
                  <a:pt x="282" y="495"/>
                  <a:pt x="379" y="482"/>
                  <a:pt x="454" y="470"/>
                </a:cubicBezTo>
                <a:cubicBezTo>
                  <a:pt x="587" y="449"/>
                  <a:pt x="717" y="413"/>
                  <a:pt x="854" y="409"/>
                </a:cubicBezTo>
                <a:cubicBezTo>
                  <a:pt x="1003" y="405"/>
                  <a:pt x="1152" y="404"/>
                  <a:pt x="1301" y="402"/>
                </a:cubicBezTo>
                <a:cubicBezTo>
                  <a:pt x="1337" y="379"/>
                  <a:pt x="1400" y="363"/>
                  <a:pt x="1443" y="348"/>
                </a:cubicBezTo>
                <a:cubicBezTo>
                  <a:pt x="1451" y="345"/>
                  <a:pt x="1482" y="339"/>
                  <a:pt x="1491" y="334"/>
                </a:cubicBezTo>
                <a:cubicBezTo>
                  <a:pt x="1555" y="298"/>
                  <a:pt x="1506" y="313"/>
                  <a:pt x="1558" y="301"/>
                </a:cubicBezTo>
                <a:cubicBezTo>
                  <a:pt x="1615" y="266"/>
                  <a:pt x="1667" y="236"/>
                  <a:pt x="1734" y="226"/>
                </a:cubicBezTo>
                <a:cubicBezTo>
                  <a:pt x="1808" y="189"/>
                  <a:pt x="1885" y="142"/>
                  <a:pt x="1965" y="118"/>
                </a:cubicBezTo>
                <a:cubicBezTo>
                  <a:pt x="1988" y="102"/>
                  <a:pt x="2005" y="97"/>
                  <a:pt x="2033" y="91"/>
                </a:cubicBezTo>
                <a:cubicBezTo>
                  <a:pt x="2074" y="62"/>
                  <a:pt x="2118" y="62"/>
                  <a:pt x="2168" y="57"/>
                </a:cubicBezTo>
                <a:cubicBezTo>
                  <a:pt x="2446" y="0"/>
                  <a:pt x="2757" y="71"/>
                  <a:pt x="3041" y="65"/>
                </a:cubicBezTo>
                <a:cubicBezTo>
                  <a:pt x="3178" y="37"/>
                  <a:pt x="3512" y="49"/>
                  <a:pt x="3601" y="50"/>
                </a:cubicBezTo>
                <a:cubicBezTo>
                  <a:pt x="3712" y="58"/>
                  <a:pt x="3805" y="42"/>
                  <a:pt x="3917" y="50"/>
                </a:cubicBezTo>
                <a:cubicBezTo>
                  <a:pt x="3943" y="59"/>
                  <a:pt x="3998" y="70"/>
                  <a:pt x="3998" y="70"/>
                </a:cubicBezTo>
                <a:cubicBezTo>
                  <a:pt x="4031" y="93"/>
                  <a:pt x="4069" y="97"/>
                  <a:pt x="4106" y="111"/>
                </a:cubicBezTo>
                <a:cubicBezTo>
                  <a:pt x="4177" y="137"/>
                  <a:pt x="4240" y="163"/>
                  <a:pt x="4316" y="172"/>
                </a:cubicBezTo>
                <a:cubicBezTo>
                  <a:pt x="4364" y="184"/>
                  <a:pt x="4404" y="214"/>
                  <a:pt x="4452" y="226"/>
                </a:cubicBezTo>
                <a:cubicBezTo>
                  <a:pt x="4496" y="257"/>
                  <a:pt x="4559" y="260"/>
                  <a:pt x="4608" y="287"/>
                </a:cubicBezTo>
                <a:cubicBezTo>
                  <a:pt x="4639" y="304"/>
                  <a:pt x="4670" y="338"/>
                  <a:pt x="4696" y="362"/>
                </a:cubicBezTo>
                <a:cubicBezTo>
                  <a:pt x="4722" y="386"/>
                  <a:pt x="4745" y="411"/>
                  <a:pt x="4770" y="436"/>
                </a:cubicBezTo>
                <a:cubicBezTo>
                  <a:pt x="4781" y="447"/>
                  <a:pt x="4793" y="459"/>
                  <a:pt x="4804" y="470"/>
                </a:cubicBezTo>
                <a:cubicBezTo>
                  <a:pt x="4813" y="479"/>
                  <a:pt x="4831" y="497"/>
                  <a:pt x="4831" y="497"/>
                </a:cubicBezTo>
                <a:cubicBezTo>
                  <a:pt x="4836" y="511"/>
                  <a:pt x="4840" y="524"/>
                  <a:pt x="4845" y="538"/>
                </a:cubicBezTo>
                <a:cubicBezTo>
                  <a:pt x="4847" y="545"/>
                  <a:pt x="4852" y="558"/>
                  <a:pt x="4852" y="558"/>
                </a:cubicBezTo>
                <a:cubicBezTo>
                  <a:pt x="4856" y="601"/>
                  <a:pt x="4870" y="644"/>
                  <a:pt x="4872" y="687"/>
                </a:cubicBezTo>
                <a:cubicBezTo>
                  <a:pt x="4875" y="756"/>
                  <a:pt x="4862" y="823"/>
                  <a:pt x="4852" y="890"/>
                </a:cubicBezTo>
                <a:cubicBezTo>
                  <a:pt x="4847" y="925"/>
                  <a:pt x="4856" y="979"/>
                  <a:pt x="4818" y="992"/>
                </a:cubicBezTo>
                <a:cubicBezTo>
                  <a:pt x="4804" y="1031"/>
                  <a:pt x="4748" y="1045"/>
                  <a:pt x="4709" y="1053"/>
                </a:cubicBezTo>
                <a:cubicBezTo>
                  <a:pt x="4656" y="1091"/>
                  <a:pt x="4681" y="1081"/>
                  <a:pt x="4642" y="1093"/>
                </a:cubicBezTo>
                <a:cubicBezTo>
                  <a:pt x="4608" y="1115"/>
                  <a:pt x="4571" y="1121"/>
                  <a:pt x="4533" y="1134"/>
                </a:cubicBezTo>
                <a:cubicBezTo>
                  <a:pt x="4521" y="1152"/>
                  <a:pt x="4513" y="1166"/>
                  <a:pt x="4513" y="11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94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67057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 rot="21553200">
            <a:off x="54097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100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3044400">
            <a:off x="32605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8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7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20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32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70 mya-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_____ of lif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36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fish &amp; invertebrates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13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land plant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322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reptiles appe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45 mya-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Mass Extinction ___% of all lif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0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1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83afdb"/>
              </a:gs>
              <a:gs pos="100000">
                <a:srgbClr val="99c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-1295280" y="3429000"/>
            <a:ext cx="11960280" cy="914400"/>
          </a:xfrm>
          <a:custGeom>
            <a:avLst/>
            <a:gdLst/>
            <a:ahLst/>
            <a:rect l="l" t="t" r="r" b="b"/>
            <a:pathLst>
              <a:path w="7534" h="484">
                <a:moveTo>
                  <a:pt x="403" y="112"/>
                </a:moveTo>
                <a:cubicBezTo>
                  <a:pt x="555" y="121"/>
                  <a:pt x="912" y="191"/>
                  <a:pt x="1120" y="180"/>
                </a:cubicBezTo>
                <a:cubicBezTo>
                  <a:pt x="1328" y="169"/>
                  <a:pt x="1439" y="28"/>
                  <a:pt x="1648" y="44"/>
                </a:cubicBezTo>
                <a:cubicBezTo>
                  <a:pt x="1857" y="60"/>
                  <a:pt x="2192" y="253"/>
                  <a:pt x="2376" y="276"/>
                </a:cubicBezTo>
                <a:cubicBezTo>
                  <a:pt x="2560" y="299"/>
                  <a:pt x="2623" y="223"/>
                  <a:pt x="2752" y="180"/>
                </a:cubicBezTo>
                <a:cubicBezTo>
                  <a:pt x="2881" y="137"/>
                  <a:pt x="3028" y="39"/>
                  <a:pt x="3152" y="20"/>
                </a:cubicBezTo>
                <a:cubicBezTo>
                  <a:pt x="3276" y="1"/>
                  <a:pt x="3400" y="52"/>
                  <a:pt x="3496" y="68"/>
                </a:cubicBezTo>
                <a:cubicBezTo>
                  <a:pt x="3592" y="84"/>
                  <a:pt x="3578" y="86"/>
                  <a:pt x="3729" y="115"/>
                </a:cubicBezTo>
                <a:cubicBezTo>
                  <a:pt x="3880" y="144"/>
                  <a:pt x="4175" y="261"/>
                  <a:pt x="4400" y="244"/>
                </a:cubicBezTo>
                <a:cubicBezTo>
                  <a:pt x="4625" y="227"/>
                  <a:pt x="4824" y="24"/>
                  <a:pt x="5080" y="12"/>
                </a:cubicBezTo>
                <a:cubicBezTo>
                  <a:pt x="5336" y="0"/>
                  <a:pt x="5720" y="154"/>
                  <a:pt x="5938" y="174"/>
                </a:cubicBezTo>
                <a:cubicBezTo>
                  <a:pt x="6156" y="194"/>
                  <a:pt x="6204" y="156"/>
                  <a:pt x="6389" y="133"/>
                </a:cubicBezTo>
                <a:cubicBezTo>
                  <a:pt x="6574" y="110"/>
                  <a:pt x="6910" y="34"/>
                  <a:pt x="7048" y="36"/>
                </a:cubicBezTo>
                <a:cubicBezTo>
                  <a:pt x="7186" y="38"/>
                  <a:pt x="7152" y="113"/>
                  <a:pt x="7216" y="148"/>
                </a:cubicBezTo>
                <a:cubicBezTo>
                  <a:pt x="7280" y="183"/>
                  <a:pt x="7439" y="197"/>
                  <a:pt x="7432" y="244"/>
                </a:cubicBezTo>
                <a:cubicBezTo>
                  <a:pt x="7425" y="291"/>
                  <a:pt x="7534" y="395"/>
                  <a:pt x="7176" y="428"/>
                </a:cubicBezTo>
                <a:cubicBezTo>
                  <a:pt x="6818" y="461"/>
                  <a:pt x="5847" y="435"/>
                  <a:pt x="5285" y="443"/>
                </a:cubicBezTo>
                <a:cubicBezTo>
                  <a:pt x="4723" y="451"/>
                  <a:pt x="4356" y="474"/>
                  <a:pt x="3803" y="475"/>
                </a:cubicBezTo>
                <a:cubicBezTo>
                  <a:pt x="3250" y="476"/>
                  <a:pt x="2489" y="449"/>
                  <a:pt x="1966" y="447"/>
                </a:cubicBezTo>
                <a:cubicBezTo>
                  <a:pt x="1443" y="446"/>
                  <a:pt x="978" y="466"/>
                  <a:pt x="669" y="465"/>
                </a:cubicBezTo>
                <a:cubicBezTo>
                  <a:pt x="360" y="465"/>
                  <a:pt x="222" y="484"/>
                  <a:pt x="113" y="443"/>
                </a:cubicBezTo>
                <a:cubicBezTo>
                  <a:pt x="4" y="401"/>
                  <a:pt x="0" y="270"/>
                  <a:pt x="16" y="217"/>
                </a:cubicBezTo>
                <a:cubicBezTo>
                  <a:pt x="32" y="165"/>
                  <a:pt x="145" y="145"/>
                  <a:pt x="209" y="127"/>
                </a:cubicBezTo>
                <a:cubicBezTo>
                  <a:pt x="274" y="109"/>
                  <a:pt x="209" y="104"/>
                  <a:pt x="403" y="1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2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s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-685800" y="3809880"/>
            <a:ext cx="10820520" cy="1143000"/>
          </a:xfrm>
          <a:custGeom>
            <a:avLst/>
            <a:gdLst/>
            <a:ahLst/>
            <a:rect l="l" t="t" r="r" b="b"/>
            <a:pathLst>
              <a:path w="6768" h="1488">
                <a:moveTo>
                  <a:pt x="400" y="29"/>
                </a:moveTo>
                <a:cubicBezTo>
                  <a:pt x="533" y="80"/>
                  <a:pt x="783" y="349"/>
                  <a:pt x="1008" y="392"/>
                </a:cubicBezTo>
                <a:cubicBezTo>
                  <a:pt x="1233" y="435"/>
                  <a:pt x="1520" y="293"/>
                  <a:pt x="1752" y="288"/>
                </a:cubicBezTo>
                <a:cubicBezTo>
                  <a:pt x="1984" y="283"/>
                  <a:pt x="2163" y="393"/>
                  <a:pt x="2400" y="360"/>
                </a:cubicBezTo>
                <a:cubicBezTo>
                  <a:pt x="2637" y="327"/>
                  <a:pt x="2889" y="81"/>
                  <a:pt x="3176" y="88"/>
                </a:cubicBezTo>
                <a:cubicBezTo>
                  <a:pt x="3463" y="95"/>
                  <a:pt x="3804" y="408"/>
                  <a:pt x="4120" y="400"/>
                </a:cubicBezTo>
                <a:cubicBezTo>
                  <a:pt x="4436" y="392"/>
                  <a:pt x="4776" y="61"/>
                  <a:pt x="5072" y="40"/>
                </a:cubicBezTo>
                <a:cubicBezTo>
                  <a:pt x="5368" y="19"/>
                  <a:pt x="5684" y="260"/>
                  <a:pt x="5896" y="272"/>
                </a:cubicBezTo>
                <a:cubicBezTo>
                  <a:pt x="6108" y="284"/>
                  <a:pt x="6228" y="133"/>
                  <a:pt x="6344" y="112"/>
                </a:cubicBezTo>
                <a:cubicBezTo>
                  <a:pt x="6460" y="91"/>
                  <a:pt x="6567" y="23"/>
                  <a:pt x="6592" y="147"/>
                </a:cubicBezTo>
                <a:cubicBezTo>
                  <a:pt x="6617" y="271"/>
                  <a:pt x="6501" y="662"/>
                  <a:pt x="6496" y="854"/>
                </a:cubicBezTo>
                <a:cubicBezTo>
                  <a:pt x="6491" y="1047"/>
                  <a:pt x="6768" y="1228"/>
                  <a:pt x="6560" y="1306"/>
                </a:cubicBezTo>
                <a:cubicBezTo>
                  <a:pt x="6352" y="1385"/>
                  <a:pt x="5712" y="1301"/>
                  <a:pt x="5248" y="1326"/>
                </a:cubicBezTo>
                <a:cubicBezTo>
                  <a:pt x="4784" y="1350"/>
                  <a:pt x="4325" y="1450"/>
                  <a:pt x="3776" y="1454"/>
                </a:cubicBezTo>
                <a:cubicBezTo>
                  <a:pt x="3227" y="1457"/>
                  <a:pt x="2471" y="1352"/>
                  <a:pt x="1952" y="1346"/>
                </a:cubicBezTo>
                <a:cubicBezTo>
                  <a:pt x="1433" y="1339"/>
                  <a:pt x="971" y="1418"/>
                  <a:pt x="664" y="1414"/>
                </a:cubicBezTo>
                <a:cubicBezTo>
                  <a:pt x="357" y="1411"/>
                  <a:pt x="220" y="1488"/>
                  <a:pt x="112" y="1326"/>
                </a:cubicBezTo>
                <a:cubicBezTo>
                  <a:pt x="4" y="1164"/>
                  <a:pt x="0" y="648"/>
                  <a:pt x="16" y="442"/>
                </a:cubicBezTo>
                <a:cubicBezTo>
                  <a:pt x="32" y="236"/>
                  <a:pt x="144" y="157"/>
                  <a:pt x="208" y="88"/>
                </a:cubicBezTo>
                <a:cubicBezTo>
                  <a:pt x="272" y="20"/>
                  <a:pt x="208" y="0"/>
                  <a:pt x="400" y="29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-609480" y="3886200"/>
            <a:ext cx="10534680" cy="3200400"/>
          </a:xfrm>
          <a:custGeom>
            <a:avLst/>
            <a:gdLst/>
            <a:ahLst/>
            <a:rect l="l" t="t" r="r" b="b"/>
            <a:pathLst>
              <a:path w="6636" h="2016">
                <a:moveTo>
                  <a:pt x="400" y="40"/>
                </a:moveTo>
                <a:cubicBezTo>
                  <a:pt x="592" y="80"/>
                  <a:pt x="1124" y="286"/>
                  <a:pt x="1360" y="359"/>
                </a:cubicBezTo>
                <a:cubicBezTo>
                  <a:pt x="1596" y="432"/>
                  <a:pt x="1612" y="464"/>
                  <a:pt x="1816" y="480"/>
                </a:cubicBezTo>
                <a:cubicBezTo>
                  <a:pt x="2020" y="496"/>
                  <a:pt x="2356" y="481"/>
                  <a:pt x="2584" y="456"/>
                </a:cubicBezTo>
                <a:cubicBezTo>
                  <a:pt x="2812" y="431"/>
                  <a:pt x="2985" y="356"/>
                  <a:pt x="3184" y="333"/>
                </a:cubicBezTo>
                <a:cubicBezTo>
                  <a:pt x="3383" y="310"/>
                  <a:pt x="3491" y="306"/>
                  <a:pt x="3776" y="319"/>
                </a:cubicBezTo>
                <a:cubicBezTo>
                  <a:pt x="4061" y="333"/>
                  <a:pt x="4531" y="432"/>
                  <a:pt x="4896" y="413"/>
                </a:cubicBezTo>
                <a:cubicBezTo>
                  <a:pt x="5261" y="393"/>
                  <a:pt x="5717" y="248"/>
                  <a:pt x="5968" y="200"/>
                </a:cubicBezTo>
                <a:cubicBezTo>
                  <a:pt x="6219" y="151"/>
                  <a:pt x="6296" y="120"/>
                  <a:pt x="6400" y="120"/>
                </a:cubicBezTo>
                <a:cubicBezTo>
                  <a:pt x="6504" y="120"/>
                  <a:pt x="6576" y="27"/>
                  <a:pt x="6592" y="200"/>
                </a:cubicBezTo>
                <a:cubicBezTo>
                  <a:pt x="6608" y="373"/>
                  <a:pt x="6501" y="897"/>
                  <a:pt x="6496" y="1158"/>
                </a:cubicBezTo>
                <a:cubicBezTo>
                  <a:pt x="6491" y="1419"/>
                  <a:pt x="6636" y="1634"/>
                  <a:pt x="6560" y="1770"/>
                </a:cubicBezTo>
                <a:cubicBezTo>
                  <a:pt x="6484" y="1906"/>
                  <a:pt x="6504" y="1943"/>
                  <a:pt x="6040" y="1976"/>
                </a:cubicBezTo>
                <a:cubicBezTo>
                  <a:pt x="5576" y="2009"/>
                  <a:pt x="4461" y="1974"/>
                  <a:pt x="3776" y="1969"/>
                </a:cubicBezTo>
                <a:cubicBezTo>
                  <a:pt x="3091" y="1964"/>
                  <a:pt x="2447" y="1953"/>
                  <a:pt x="1928" y="1944"/>
                </a:cubicBezTo>
                <a:cubicBezTo>
                  <a:pt x="1409" y="1935"/>
                  <a:pt x="967" y="1941"/>
                  <a:pt x="664" y="1916"/>
                </a:cubicBezTo>
                <a:cubicBezTo>
                  <a:pt x="361" y="1891"/>
                  <a:pt x="220" y="2016"/>
                  <a:pt x="112" y="1796"/>
                </a:cubicBezTo>
                <a:cubicBezTo>
                  <a:pt x="4" y="1577"/>
                  <a:pt x="0" y="878"/>
                  <a:pt x="16" y="599"/>
                </a:cubicBezTo>
                <a:cubicBezTo>
                  <a:pt x="32" y="319"/>
                  <a:pt x="144" y="213"/>
                  <a:pt x="208" y="120"/>
                </a:cubicBezTo>
                <a:cubicBezTo>
                  <a:pt x="272" y="27"/>
                  <a:pt x="208" y="0"/>
                  <a:pt x="400" y="40"/>
                </a:cubicBezTo>
                <a:close/>
              </a:path>
            </a:pathLst>
          </a:custGeom>
          <a:gradFill rotWithShape="0">
            <a:gsLst>
              <a:gs pos="0">
                <a:srgbClr val="122400"/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67280" y="5181480"/>
            <a:ext cx="4010040" cy="703440"/>
          </a:xfrm>
          <a:custGeom>
            <a:avLst/>
            <a:gdLst/>
            <a:ahLst/>
            <a:rect l="l" t="t" r="r" b="b"/>
            <a:pathLst>
              <a:path w="2526" h="443">
                <a:moveTo>
                  <a:pt x="1418" y="12"/>
                </a:moveTo>
                <a:cubicBezTo>
                  <a:pt x="1274" y="12"/>
                  <a:pt x="1113" y="41"/>
                  <a:pt x="890" y="60"/>
                </a:cubicBezTo>
                <a:cubicBezTo>
                  <a:pt x="667" y="79"/>
                  <a:pt x="162" y="102"/>
                  <a:pt x="81" y="128"/>
                </a:cubicBezTo>
                <a:cubicBezTo>
                  <a:pt x="0" y="154"/>
                  <a:pt x="373" y="172"/>
                  <a:pt x="401" y="216"/>
                </a:cubicBezTo>
                <a:cubicBezTo>
                  <a:pt x="429" y="260"/>
                  <a:pt x="20" y="367"/>
                  <a:pt x="249" y="392"/>
                </a:cubicBezTo>
                <a:cubicBezTo>
                  <a:pt x="478" y="417"/>
                  <a:pt x="1427" y="365"/>
                  <a:pt x="1778" y="368"/>
                </a:cubicBezTo>
                <a:cubicBezTo>
                  <a:pt x="2129" y="371"/>
                  <a:pt x="2230" y="443"/>
                  <a:pt x="2354" y="408"/>
                </a:cubicBezTo>
                <a:cubicBezTo>
                  <a:pt x="2478" y="373"/>
                  <a:pt x="2518" y="218"/>
                  <a:pt x="2522" y="156"/>
                </a:cubicBezTo>
                <a:cubicBezTo>
                  <a:pt x="2526" y="94"/>
                  <a:pt x="2427" y="61"/>
                  <a:pt x="2378" y="36"/>
                </a:cubicBezTo>
                <a:cubicBezTo>
                  <a:pt x="2329" y="11"/>
                  <a:pt x="2282" y="8"/>
                  <a:pt x="2226" y="4"/>
                </a:cubicBezTo>
                <a:cubicBezTo>
                  <a:pt x="2170" y="0"/>
                  <a:pt x="2121" y="3"/>
                  <a:pt x="2042" y="12"/>
                </a:cubicBezTo>
                <a:cubicBezTo>
                  <a:pt x="1963" y="21"/>
                  <a:pt x="1858" y="60"/>
                  <a:pt x="1754" y="60"/>
                </a:cubicBezTo>
                <a:cubicBezTo>
                  <a:pt x="1650" y="60"/>
                  <a:pt x="1562" y="12"/>
                  <a:pt x="1418" y="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90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772400" y="3657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505320" y="4038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3657600" y="3733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162920" y="3733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2133720" y="3809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4724280" y="3809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8"/>
          <a:stretch/>
        </p:blipFill>
        <p:spPr>
          <a:xfrm>
            <a:off x="-1322280" y="3124080"/>
            <a:ext cx="1322280" cy="165420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9"/>
          <a:stretch/>
        </p:blipFill>
        <p:spPr>
          <a:xfrm>
            <a:off x="-457200" y="38098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10"/>
          <a:stretch/>
        </p:blipFill>
        <p:spPr>
          <a:xfrm rot="21420000">
            <a:off x="-2590560" y="4647960"/>
            <a:ext cx="1819440" cy="145548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11"/>
          <a:stretch/>
        </p:blipFill>
        <p:spPr>
          <a:xfrm>
            <a:off x="3886200" y="4343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685800" y="14479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sozoic Era was the age of rept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witnessed the evolution of the lar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 to have ever walked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2"/>
          <a:stretch/>
        </p:blipFill>
        <p:spPr>
          <a:xfrm>
            <a:off x="7543800" y="44956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80" name=""/>
          <p:cNvGrpSpPr/>
          <p:nvPr/>
        </p:nvGrpSpPr>
        <p:grpSpPr>
          <a:xfrm>
            <a:off x="6172200" y="380880"/>
            <a:ext cx="2971800" cy="2743200"/>
            <a:chOff x="6172200" y="380880"/>
            <a:chExt cx="2971800" cy="2743200"/>
          </a:xfrm>
        </p:grpSpPr>
        <p:pic>
          <p:nvPicPr>
            <p:cNvPr id="981" name="" descr=""/>
            <p:cNvPicPr/>
            <p:nvPr/>
          </p:nvPicPr>
          <p:blipFill>
            <a:blip r:embed="rId13"/>
            <a:stretch/>
          </p:blipFill>
          <p:spPr>
            <a:xfrm>
              <a:off x="6172200" y="380880"/>
              <a:ext cx="29718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7582680" y="520200"/>
              <a:ext cx="1309320" cy="241776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423840" y="1023840"/>
              <a:ext cx="1298160" cy="190332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29080" y="1822320"/>
              <a:ext cx="12088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540480" y="731160"/>
              <a:ext cx="1168920" cy="12060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876400">
              <a:off x="6853680" y="116316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903720" y="547200"/>
              <a:ext cx="764640" cy="140472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7632720" y="613080"/>
              <a:ext cx="0" cy="1208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3994200">
              <a:off x="7055280" y="107064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380880" y="2362320"/>
            <a:ext cx="4953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nosaurs would eventually go extin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ive rise to modern day b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4"/>
          <a:stretch/>
        </p:blipFill>
        <p:spPr>
          <a:xfrm>
            <a:off x="6172200" y="51814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15"/>
          <a:stretch/>
        </p:blipFill>
        <p:spPr>
          <a:xfrm>
            <a:off x="60958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16"/>
          <a:stretch/>
        </p:blipFill>
        <p:spPr>
          <a:xfrm>
            <a:off x="5867280" y="5143680"/>
            <a:ext cx="457200" cy="34272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17"/>
          <a:stretch/>
        </p:blipFill>
        <p:spPr>
          <a:xfrm>
            <a:off x="6858000" y="54100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18"/>
          <a:stretch/>
        </p:blipFill>
        <p:spPr>
          <a:xfrm>
            <a:off x="6629400" y="533412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19"/>
          <a:stretch/>
        </p:blipFill>
        <p:spPr>
          <a:xfrm>
            <a:off x="-914400" y="5105520"/>
            <a:ext cx="106668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5" dur="indefinite" restart="never" nodeType="tmRoot">
          <p:childTnLst>
            <p:seq>
              <p:cTn id="2336" dur="indefinite" nodeType="mainSeq">
                <p:childTnLst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1" dur="20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4" dur="2000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2000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0.05174 0.01482 0.1073 0.01204 0.17136 0.02037 C 0.23542 0.02871 0.30851 0.04005 0.38473 0.04954 C 0.46094 0.05903 0.54931 0.07014 0.62917 0.07732 C 0.70903 0.08449 0.79723 0.09236 0.86372 0.09213 C 0.93021 0.0919 0.9783 0.07917 1.02778 0.07547 C 1.07709 0.07176 1.12657 0.07639 1.16111 0.06991 C 1.19566 0.06343 1.21945 0.04352 1.23473 0.03658 E">
                                      <p:cBhvr>
                                        <p:cTn id="2349" dur="25000" fill="hold"/>
                                        <p:tgtEl>
                                          <p:spTgt spid="9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3473 C 0.10104 -0.03889 0.20225 -0.0426 0.25972 -0.04422 C 0.31718 -0.04584 0.30468 -0.04746 0.34427 -0.04422 C 0.3842 -0.04098 0.43454 -0.01227 0.49861 -0.02524 C 0.56267 -0.0382 0.65277 -0.1007 0.72829 -0.12269 C 0.80382 -0.14468 0.84722 -0.15672 0.95191 -0.15787 C 1.05659 -0.15903 1.27257 -0.13542 1.35694 -0.12963 E">
                                      <p:cBhvr>
                                        <p:cTn id="2351" dur="29000" fill="hold"/>
                                        <p:tgtEl>
                                          <p:spTgt spid="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9259E-006 C 0.06979 0.01852 0.30399 0.10764 0.41666 0.11088 C 0.52934 0.11412 0.596 0.03819 0.67639 0.02014 C 0.75677 0.00208 0.83246 0.00301 0.89861 0.00185 C 0.96475 0.00069 1.00503 0.01643 1.07361 0.01296 C 1.14219 0.00949 1.27031 -0.0132 1.30972 -0.01852 E">
                                      <p:cBhvr>
                                        <p:cTn id="2353" dur="25000" fill="hold"/>
                                        <p:tgtEl>
                                          <p:spTgt spid="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83afdb"/>
              </a:gs>
              <a:gs pos="100000">
                <a:srgbClr val="99c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-1295280" y="3429000"/>
            <a:ext cx="11960280" cy="914400"/>
          </a:xfrm>
          <a:custGeom>
            <a:avLst/>
            <a:gdLst/>
            <a:ahLst/>
            <a:rect l="l" t="t" r="r" b="b"/>
            <a:pathLst>
              <a:path w="7534" h="484">
                <a:moveTo>
                  <a:pt x="403" y="112"/>
                </a:moveTo>
                <a:cubicBezTo>
                  <a:pt x="555" y="121"/>
                  <a:pt x="912" y="191"/>
                  <a:pt x="1120" y="180"/>
                </a:cubicBezTo>
                <a:cubicBezTo>
                  <a:pt x="1328" y="169"/>
                  <a:pt x="1439" y="28"/>
                  <a:pt x="1648" y="44"/>
                </a:cubicBezTo>
                <a:cubicBezTo>
                  <a:pt x="1857" y="60"/>
                  <a:pt x="2192" y="253"/>
                  <a:pt x="2376" y="276"/>
                </a:cubicBezTo>
                <a:cubicBezTo>
                  <a:pt x="2560" y="299"/>
                  <a:pt x="2623" y="223"/>
                  <a:pt x="2752" y="180"/>
                </a:cubicBezTo>
                <a:cubicBezTo>
                  <a:pt x="2881" y="137"/>
                  <a:pt x="3028" y="39"/>
                  <a:pt x="3152" y="20"/>
                </a:cubicBezTo>
                <a:cubicBezTo>
                  <a:pt x="3276" y="1"/>
                  <a:pt x="3400" y="52"/>
                  <a:pt x="3496" y="68"/>
                </a:cubicBezTo>
                <a:cubicBezTo>
                  <a:pt x="3592" y="84"/>
                  <a:pt x="3578" y="86"/>
                  <a:pt x="3729" y="115"/>
                </a:cubicBezTo>
                <a:cubicBezTo>
                  <a:pt x="3880" y="144"/>
                  <a:pt x="4175" y="261"/>
                  <a:pt x="4400" y="244"/>
                </a:cubicBezTo>
                <a:cubicBezTo>
                  <a:pt x="4625" y="227"/>
                  <a:pt x="4824" y="24"/>
                  <a:pt x="5080" y="12"/>
                </a:cubicBezTo>
                <a:cubicBezTo>
                  <a:pt x="5336" y="0"/>
                  <a:pt x="5720" y="154"/>
                  <a:pt x="5938" y="174"/>
                </a:cubicBezTo>
                <a:cubicBezTo>
                  <a:pt x="6156" y="194"/>
                  <a:pt x="6204" y="156"/>
                  <a:pt x="6389" y="133"/>
                </a:cubicBezTo>
                <a:cubicBezTo>
                  <a:pt x="6574" y="110"/>
                  <a:pt x="6910" y="34"/>
                  <a:pt x="7048" y="36"/>
                </a:cubicBezTo>
                <a:cubicBezTo>
                  <a:pt x="7186" y="38"/>
                  <a:pt x="7152" y="113"/>
                  <a:pt x="7216" y="148"/>
                </a:cubicBezTo>
                <a:cubicBezTo>
                  <a:pt x="7280" y="183"/>
                  <a:pt x="7439" y="197"/>
                  <a:pt x="7432" y="244"/>
                </a:cubicBezTo>
                <a:cubicBezTo>
                  <a:pt x="7425" y="291"/>
                  <a:pt x="7534" y="395"/>
                  <a:pt x="7176" y="428"/>
                </a:cubicBezTo>
                <a:cubicBezTo>
                  <a:pt x="6818" y="461"/>
                  <a:pt x="5847" y="435"/>
                  <a:pt x="5285" y="443"/>
                </a:cubicBezTo>
                <a:cubicBezTo>
                  <a:pt x="4723" y="451"/>
                  <a:pt x="4356" y="474"/>
                  <a:pt x="3803" y="475"/>
                </a:cubicBezTo>
                <a:cubicBezTo>
                  <a:pt x="3250" y="476"/>
                  <a:pt x="2489" y="449"/>
                  <a:pt x="1966" y="447"/>
                </a:cubicBezTo>
                <a:cubicBezTo>
                  <a:pt x="1443" y="446"/>
                  <a:pt x="978" y="466"/>
                  <a:pt x="669" y="465"/>
                </a:cubicBezTo>
                <a:cubicBezTo>
                  <a:pt x="360" y="465"/>
                  <a:pt x="222" y="484"/>
                  <a:pt x="113" y="443"/>
                </a:cubicBezTo>
                <a:cubicBezTo>
                  <a:pt x="4" y="401"/>
                  <a:pt x="0" y="270"/>
                  <a:pt x="16" y="217"/>
                </a:cubicBezTo>
                <a:cubicBezTo>
                  <a:pt x="32" y="165"/>
                  <a:pt x="145" y="145"/>
                  <a:pt x="209" y="127"/>
                </a:cubicBezTo>
                <a:cubicBezTo>
                  <a:pt x="274" y="109"/>
                  <a:pt x="209" y="104"/>
                  <a:pt x="403" y="1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2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s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-685800" y="3809880"/>
            <a:ext cx="10820520" cy="1143000"/>
          </a:xfrm>
          <a:custGeom>
            <a:avLst/>
            <a:gdLst/>
            <a:ahLst/>
            <a:rect l="l" t="t" r="r" b="b"/>
            <a:pathLst>
              <a:path w="6768" h="1488">
                <a:moveTo>
                  <a:pt x="400" y="29"/>
                </a:moveTo>
                <a:cubicBezTo>
                  <a:pt x="533" y="80"/>
                  <a:pt x="783" y="349"/>
                  <a:pt x="1008" y="392"/>
                </a:cubicBezTo>
                <a:cubicBezTo>
                  <a:pt x="1233" y="435"/>
                  <a:pt x="1520" y="293"/>
                  <a:pt x="1752" y="288"/>
                </a:cubicBezTo>
                <a:cubicBezTo>
                  <a:pt x="1984" y="283"/>
                  <a:pt x="2163" y="393"/>
                  <a:pt x="2400" y="360"/>
                </a:cubicBezTo>
                <a:cubicBezTo>
                  <a:pt x="2637" y="327"/>
                  <a:pt x="2889" y="81"/>
                  <a:pt x="3176" y="88"/>
                </a:cubicBezTo>
                <a:cubicBezTo>
                  <a:pt x="3463" y="95"/>
                  <a:pt x="3804" y="408"/>
                  <a:pt x="4120" y="400"/>
                </a:cubicBezTo>
                <a:cubicBezTo>
                  <a:pt x="4436" y="392"/>
                  <a:pt x="4776" y="61"/>
                  <a:pt x="5072" y="40"/>
                </a:cubicBezTo>
                <a:cubicBezTo>
                  <a:pt x="5368" y="19"/>
                  <a:pt x="5684" y="260"/>
                  <a:pt x="5896" y="272"/>
                </a:cubicBezTo>
                <a:cubicBezTo>
                  <a:pt x="6108" y="284"/>
                  <a:pt x="6228" y="133"/>
                  <a:pt x="6344" y="112"/>
                </a:cubicBezTo>
                <a:cubicBezTo>
                  <a:pt x="6460" y="91"/>
                  <a:pt x="6567" y="23"/>
                  <a:pt x="6592" y="147"/>
                </a:cubicBezTo>
                <a:cubicBezTo>
                  <a:pt x="6617" y="271"/>
                  <a:pt x="6501" y="662"/>
                  <a:pt x="6496" y="854"/>
                </a:cubicBezTo>
                <a:cubicBezTo>
                  <a:pt x="6491" y="1047"/>
                  <a:pt x="6768" y="1228"/>
                  <a:pt x="6560" y="1306"/>
                </a:cubicBezTo>
                <a:cubicBezTo>
                  <a:pt x="6352" y="1385"/>
                  <a:pt x="5712" y="1301"/>
                  <a:pt x="5248" y="1326"/>
                </a:cubicBezTo>
                <a:cubicBezTo>
                  <a:pt x="4784" y="1350"/>
                  <a:pt x="4325" y="1450"/>
                  <a:pt x="3776" y="1454"/>
                </a:cubicBezTo>
                <a:cubicBezTo>
                  <a:pt x="3227" y="1457"/>
                  <a:pt x="2471" y="1352"/>
                  <a:pt x="1952" y="1346"/>
                </a:cubicBezTo>
                <a:cubicBezTo>
                  <a:pt x="1433" y="1339"/>
                  <a:pt x="971" y="1418"/>
                  <a:pt x="664" y="1414"/>
                </a:cubicBezTo>
                <a:cubicBezTo>
                  <a:pt x="357" y="1411"/>
                  <a:pt x="220" y="1488"/>
                  <a:pt x="112" y="1326"/>
                </a:cubicBezTo>
                <a:cubicBezTo>
                  <a:pt x="4" y="1164"/>
                  <a:pt x="0" y="648"/>
                  <a:pt x="16" y="442"/>
                </a:cubicBezTo>
                <a:cubicBezTo>
                  <a:pt x="32" y="236"/>
                  <a:pt x="144" y="157"/>
                  <a:pt x="208" y="88"/>
                </a:cubicBezTo>
                <a:cubicBezTo>
                  <a:pt x="272" y="20"/>
                  <a:pt x="208" y="0"/>
                  <a:pt x="400" y="29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-609480" y="3886200"/>
            <a:ext cx="10534680" cy="3200400"/>
          </a:xfrm>
          <a:custGeom>
            <a:avLst/>
            <a:gdLst/>
            <a:ahLst/>
            <a:rect l="l" t="t" r="r" b="b"/>
            <a:pathLst>
              <a:path w="6636" h="2016">
                <a:moveTo>
                  <a:pt x="400" y="40"/>
                </a:moveTo>
                <a:cubicBezTo>
                  <a:pt x="592" y="80"/>
                  <a:pt x="1124" y="286"/>
                  <a:pt x="1360" y="359"/>
                </a:cubicBezTo>
                <a:cubicBezTo>
                  <a:pt x="1596" y="432"/>
                  <a:pt x="1612" y="464"/>
                  <a:pt x="1816" y="480"/>
                </a:cubicBezTo>
                <a:cubicBezTo>
                  <a:pt x="2020" y="496"/>
                  <a:pt x="2356" y="481"/>
                  <a:pt x="2584" y="456"/>
                </a:cubicBezTo>
                <a:cubicBezTo>
                  <a:pt x="2812" y="431"/>
                  <a:pt x="2985" y="356"/>
                  <a:pt x="3184" y="333"/>
                </a:cubicBezTo>
                <a:cubicBezTo>
                  <a:pt x="3383" y="310"/>
                  <a:pt x="3491" y="306"/>
                  <a:pt x="3776" y="319"/>
                </a:cubicBezTo>
                <a:cubicBezTo>
                  <a:pt x="4061" y="333"/>
                  <a:pt x="4531" y="432"/>
                  <a:pt x="4896" y="413"/>
                </a:cubicBezTo>
                <a:cubicBezTo>
                  <a:pt x="5261" y="393"/>
                  <a:pt x="5717" y="248"/>
                  <a:pt x="5968" y="200"/>
                </a:cubicBezTo>
                <a:cubicBezTo>
                  <a:pt x="6219" y="151"/>
                  <a:pt x="6296" y="120"/>
                  <a:pt x="6400" y="120"/>
                </a:cubicBezTo>
                <a:cubicBezTo>
                  <a:pt x="6504" y="120"/>
                  <a:pt x="6576" y="27"/>
                  <a:pt x="6592" y="200"/>
                </a:cubicBezTo>
                <a:cubicBezTo>
                  <a:pt x="6608" y="373"/>
                  <a:pt x="6501" y="897"/>
                  <a:pt x="6496" y="1158"/>
                </a:cubicBezTo>
                <a:cubicBezTo>
                  <a:pt x="6491" y="1419"/>
                  <a:pt x="6636" y="1634"/>
                  <a:pt x="6560" y="1770"/>
                </a:cubicBezTo>
                <a:cubicBezTo>
                  <a:pt x="6484" y="1906"/>
                  <a:pt x="6504" y="1943"/>
                  <a:pt x="6040" y="1976"/>
                </a:cubicBezTo>
                <a:cubicBezTo>
                  <a:pt x="5576" y="2009"/>
                  <a:pt x="4461" y="1974"/>
                  <a:pt x="3776" y="1969"/>
                </a:cubicBezTo>
                <a:cubicBezTo>
                  <a:pt x="3091" y="1964"/>
                  <a:pt x="2447" y="1953"/>
                  <a:pt x="1928" y="1944"/>
                </a:cubicBezTo>
                <a:cubicBezTo>
                  <a:pt x="1409" y="1935"/>
                  <a:pt x="967" y="1941"/>
                  <a:pt x="664" y="1916"/>
                </a:cubicBezTo>
                <a:cubicBezTo>
                  <a:pt x="361" y="1891"/>
                  <a:pt x="220" y="2016"/>
                  <a:pt x="112" y="1796"/>
                </a:cubicBezTo>
                <a:cubicBezTo>
                  <a:pt x="4" y="1577"/>
                  <a:pt x="0" y="878"/>
                  <a:pt x="16" y="599"/>
                </a:cubicBezTo>
                <a:cubicBezTo>
                  <a:pt x="32" y="319"/>
                  <a:pt x="144" y="213"/>
                  <a:pt x="208" y="120"/>
                </a:cubicBezTo>
                <a:cubicBezTo>
                  <a:pt x="272" y="27"/>
                  <a:pt x="208" y="0"/>
                  <a:pt x="400" y="40"/>
                </a:cubicBezTo>
                <a:close/>
              </a:path>
            </a:pathLst>
          </a:custGeom>
          <a:gradFill rotWithShape="0">
            <a:gsLst>
              <a:gs pos="0">
                <a:srgbClr val="122400"/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867280" y="5181480"/>
            <a:ext cx="4010040" cy="703440"/>
          </a:xfrm>
          <a:custGeom>
            <a:avLst/>
            <a:gdLst/>
            <a:ahLst/>
            <a:rect l="l" t="t" r="r" b="b"/>
            <a:pathLst>
              <a:path w="2526" h="443">
                <a:moveTo>
                  <a:pt x="1418" y="12"/>
                </a:moveTo>
                <a:cubicBezTo>
                  <a:pt x="1274" y="12"/>
                  <a:pt x="1113" y="41"/>
                  <a:pt x="890" y="60"/>
                </a:cubicBezTo>
                <a:cubicBezTo>
                  <a:pt x="667" y="79"/>
                  <a:pt x="162" y="102"/>
                  <a:pt x="81" y="128"/>
                </a:cubicBezTo>
                <a:cubicBezTo>
                  <a:pt x="0" y="154"/>
                  <a:pt x="373" y="172"/>
                  <a:pt x="401" y="216"/>
                </a:cubicBezTo>
                <a:cubicBezTo>
                  <a:pt x="429" y="260"/>
                  <a:pt x="20" y="367"/>
                  <a:pt x="249" y="392"/>
                </a:cubicBezTo>
                <a:cubicBezTo>
                  <a:pt x="478" y="417"/>
                  <a:pt x="1427" y="365"/>
                  <a:pt x="1778" y="368"/>
                </a:cubicBezTo>
                <a:cubicBezTo>
                  <a:pt x="2129" y="371"/>
                  <a:pt x="2230" y="443"/>
                  <a:pt x="2354" y="408"/>
                </a:cubicBezTo>
                <a:cubicBezTo>
                  <a:pt x="2478" y="373"/>
                  <a:pt x="2518" y="218"/>
                  <a:pt x="2522" y="156"/>
                </a:cubicBezTo>
                <a:cubicBezTo>
                  <a:pt x="2526" y="94"/>
                  <a:pt x="2427" y="61"/>
                  <a:pt x="2378" y="36"/>
                </a:cubicBezTo>
                <a:cubicBezTo>
                  <a:pt x="2329" y="11"/>
                  <a:pt x="2282" y="8"/>
                  <a:pt x="2226" y="4"/>
                </a:cubicBezTo>
                <a:cubicBezTo>
                  <a:pt x="2170" y="0"/>
                  <a:pt x="2121" y="3"/>
                  <a:pt x="2042" y="12"/>
                </a:cubicBezTo>
                <a:cubicBezTo>
                  <a:pt x="1963" y="21"/>
                  <a:pt x="1858" y="60"/>
                  <a:pt x="1754" y="60"/>
                </a:cubicBezTo>
                <a:cubicBezTo>
                  <a:pt x="1650" y="60"/>
                  <a:pt x="1562" y="12"/>
                  <a:pt x="1418" y="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90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772400" y="3657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505320" y="4038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3657600" y="3733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162920" y="3733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2133720" y="3809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4724280" y="3809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8"/>
          <a:stretch/>
        </p:blipFill>
        <p:spPr>
          <a:xfrm>
            <a:off x="-1322280" y="3124080"/>
            <a:ext cx="1322280" cy="165420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9"/>
          <a:stretch/>
        </p:blipFill>
        <p:spPr>
          <a:xfrm>
            <a:off x="-457200" y="38098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10"/>
          <a:stretch/>
        </p:blipFill>
        <p:spPr>
          <a:xfrm>
            <a:off x="-914400" y="5105520"/>
            <a:ext cx="1066680" cy="64296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11"/>
          <a:stretch/>
        </p:blipFill>
        <p:spPr>
          <a:xfrm rot="21420000">
            <a:off x="-2590560" y="4647960"/>
            <a:ext cx="1819440" cy="145548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12"/>
          <a:stretch/>
        </p:blipFill>
        <p:spPr>
          <a:xfrm>
            <a:off x="3886200" y="4343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1143000" y="137160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sozoic Era witnessed an explosion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3"/>
          <a:stretch/>
        </p:blipFill>
        <p:spPr>
          <a:xfrm>
            <a:off x="7543800" y="44956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021" name=""/>
          <p:cNvGrpSpPr/>
          <p:nvPr/>
        </p:nvGrpSpPr>
        <p:grpSpPr>
          <a:xfrm>
            <a:off x="6172200" y="914400"/>
            <a:ext cx="2971800" cy="2743200"/>
            <a:chOff x="6172200" y="914400"/>
            <a:chExt cx="2971800" cy="2743200"/>
          </a:xfrm>
        </p:grpSpPr>
        <p:pic>
          <p:nvPicPr>
            <p:cNvPr id="1022" name="" descr=""/>
            <p:cNvPicPr/>
            <p:nvPr/>
          </p:nvPicPr>
          <p:blipFill>
            <a:blip r:embed="rId14"/>
            <a:stretch/>
          </p:blipFill>
          <p:spPr>
            <a:xfrm>
              <a:off x="6172200" y="914400"/>
              <a:ext cx="29718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7582680" y="1053720"/>
              <a:ext cx="1309320" cy="241776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423840" y="1557360"/>
              <a:ext cx="1298160" cy="190332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129080" y="2355840"/>
              <a:ext cx="12088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40480" y="1264680"/>
              <a:ext cx="1168920" cy="12060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2876400">
              <a:off x="6853680" y="169668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03720" y="1080720"/>
              <a:ext cx="764640" cy="140472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7632720" y="1146600"/>
              <a:ext cx="0" cy="1208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3994200">
              <a:off x="7055280" y="160416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57" dur="indefinite" restart="never" nodeType="tmRoot">
          <p:childTnLst>
            <p:seq>
              <p:cTn id="2358" dur="indefinite" nodeType="mainSeq">
                <p:childTnLst>
                  <p:par>
                    <p:cTn id="2359" fill="hold">
                      <p:stCondLst>
                        <p:cond delay="0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0.05191 0.01482 0.104 0.02986 0.17205 0.02037 C 0.24045 0.01088 0.33629 -0.03796 0.40973 -0.0574 C 0.48316 -0.07685 0.54497 -0.08889 0.61233 -0.09629 C 0.67969 -0.1037 0.74809 -0.09791 0.81389 -0.10231 C 0.87969 -0.10671 0.93177 -0.11944 1.00695 -0.12222 C 1.08212 -0.125 1.22466 -0.11921 1.26528 -0.11851 C 1.30556 -0.11782 1.27778 -0.11828 1.25 -0.11851 E">
                                      <p:cBhvr>
                                        <p:cTn id="2362" dur="25000" fill="hold"/>
                                        <p:tgtEl>
                                          <p:spTgt spid="10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16667E-006 -0.03473 C 0.10104 -0.03889 0.20225 -0.0426 0.25972 -0.04422 C 0.31718 -0.04584 0.30468 -0.04746 0.34427 -0.04422 C 0.3842 -0.04098 0.43454 -0.01227 0.49861 -0.02524 C 0.56267 -0.0382 0.65277 -0.1007 0.72829 -0.12269 C 0.80382 -0.14468 0.84722 -0.15672 0.95191 -0.15787 C 1.05659 -0.15903 1.27257 -0.13542 1.35694 -0.12963 E">
                                      <p:cBhvr>
                                        <p:cTn id="2364" dur="27000" fill="hold"/>
                                        <p:tgtEl>
                                          <p:spTgt spid="1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5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22222E-006 2.59259E-006 C 0.06979 0.01852 0.30399 0.10764 0.41666 0.11088 C 0.52934 0.11412 0.596 0.03819 0.67639 0.02014 C 0.75677 0.00208 0.83246 0.00301 0.89861 0.00185 C 0.96475 0.00069 1.00503 0.01643 1.07361 0.01296 C 1.14219 0.00949 1.27031 -0.0132 1.30972 -0.01852 E">
                                      <p:cBhvr>
                                        <p:cTn id="2366" dur="25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4991040" y="1600200"/>
            <a:ext cx="4152960" cy="415296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4114800" y="762120"/>
            <a:ext cx="5867280" cy="5867280"/>
          </a:xfrm>
          <a:prstGeom prst="donut">
            <a:avLst>
              <a:gd name="adj" fmla="val 1757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181480" y="1828800"/>
            <a:ext cx="3733920" cy="3657600"/>
          </a:xfrm>
          <a:prstGeom prst="ellipse">
            <a:avLst/>
          </a:prstGeom>
          <a:blipFill rotWithShape="0">
            <a:blip r:embed="rId3">
              <a:alphaModFix amt="3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nosaur D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mounting evidence that a large meteorite impact slammed into earth 65 mya ending the Cenozoic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mpact would have caused widespread devastation and f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4"/>
          <a:stretch/>
        </p:blipFill>
        <p:spPr>
          <a:xfrm>
            <a:off x="-2133720" y="-1600200"/>
            <a:ext cx="25146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7" dur="indefinite" restart="never" nodeType="tmRoot">
          <p:childTnLst>
            <p:seq>
              <p:cTn id="2368" dur="indefinite" nodeType="mainSeq">
                <p:childTnLst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90416 0.53889 E">
                                      <p:cBhvr>
                                        <p:cTn id="2372" dur="5000" fill="hold"/>
                                        <p:tgtEl>
                                          <p:spTgt spid="1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4" dur="5000" fill="hold"/>
                                        <p:tgtEl>
                                          <p:spTgt spid="103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0" dur="5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4991040" y="1600200"/>
            <a:ext cx="4152960" cy="415296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4114800" y="762120"/>
            <a:ext cx="5867280" cy="5867280"/>
          </a:xfrm>
          <a:prstGeom prst="donut">
            <a:avLst>
              <a:gd name="adj" fmla="val 1757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181480" y="1828800"/>
            <a:ext cx="3733920" cy="3657600"/>
          </a:xfrm>
          <a:prstGeom prst="ellipse">
            <a:avLst/>
          </a:prstGeom>
          <a:blipFill rotWithShape="0">
            <a:blip r:embed="rId3">
              <a:alphaModFix amt="3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nosaur D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h and smoke from fires could have blocked out enough sunlight changing the global climate; decimating  and wiping out the cold blood rep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4"/>
          <a:stretch/>
        </p:blipFill>
        <p:spPr>
          <a:xfrm>
            <a:off x="-2209680" y="-1600200"/>
            <a:ext cx="25146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1" dur="indefinite" restart="never" nodeType="tmRoot">
          <p:childTnLst>
            <p:seq>
              <p:cTn id="2392" dur="indefinite" nodeType="mainSeq">
                <p:childTnLst>
                  <p:par>
                    <p:cTn id="2393" fill="hold">
                      <p:stCondLst>
                        <p:cond delay="0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6 -0.01667 L 0.89584 0.53889 E">
                                      <p:cBhvr>
                                        <p:cTn id="2396" dur="5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8" dur="5000" fill="hold"/>
                                        <p:tgtEl>
                                          <p:spTgt spid="104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4" dur="5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392640" y="1873080"/>
            <a:ext cx="1157040" cy="2302200"/>
          </a:xfrm>
          <a:custGeom>
            <a:avLst/>
            <a:gdLst/>
            <a:ahLst/>
            <a:rect l="l" t="t" r="r" b="b"/>
            <a:pathLst>
              <a:path w="729" h="1450">
                <a:moveTo>
                  <a:pt x="699" y="1304"/>
                </a:moveTo>
                <a:cubicBezTo>
                  <a:pt x="601" y="1144"/>
                  <a:pt x="198" y="439"/>
                  <a:pt x="99" y="264"/>
                </a:cubicBezTo>
                <a:cubicBezTo>
                  <a:pt x="0" y="89"/>
                  <a:pt x="82" y="269"/>
                  <a:pt x="107" y="256"/>
                </a:cubicBezTo>
                <a:cubicBezTo>
                  <a:pt x="132" y="243"/>
                  <a:pt x="190" y="205"/>
                  <a:pt x="247" y="184"/>
                </a:cubicBezTo>
                <a:cubicBezTo>
                  <a:pt x="304" y="163"/>
                  <a:pt x="410" y="127"/>
                  <a:pt x="447" y="128"/>
                </a:cubicBezTo>
                <a:cubicBezTo>
                  <a:pt x="484" y="129"/>
                  <a:pt x="430" y="0"/>
                  <a:pt x="471" y="189"/>
                </a:cubicBezTo>
                <a:cubicBezTo>
                  <a:pt x="512" y="378"/>
                  <a:pt x="653" y="1078"/>
                  <a:pt x="691" y="1264"/>
                </a:cubicBezTo>
                <a:cubicBezTo>
                  <a:pt x="729" y="1450"/>
                  <a:pt x="697" y="1296"/>
                  <a:pt x="699" y="1304"/>
                </a:cubicBezTo>
                <a:close/>
              </a:path>
            </a:pathLst>
          </a:custGeom>
          <a:solidFill>
            <a:srgbClr val="008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4495680" y="1981080"/>
            <a:ext cx="0" cy="198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rot="3994200">
            <a:off x="3581280" y="274320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5" dur="indefinite" restart="never" nodeType="tmRoot">
          <p:childTnLst>
            <p:seq>
              <p:cTn id="2416" dur="indefinite" nodeType="mainSeq">
                <p:childTnLst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4" dur="20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1056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43280" y="2174760"/>
              <a:ext cx="1768320" cy="19764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92640" y="1873080"/>
              <a:ext cx="1157040" cy="230220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4495680" y="1981080"/>
              <a:ext cx="0" cy="198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3994200">
              <a:off x="3581280" y="2743200"/>
              <a:ext cx="1066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"/>
          <p:cNvSpPr/>
          <p:nvPr/>
        </p:nvSpPr>
        <p:spPr>
          <a:xfrm flipH="1" flipV="1">
            <a:off x="6477120" y="3352680"/>
            <a:ext cx="457200" cy="609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6553080" y="2971800"/>
            <a:ext cx="609840" cy="9144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2361960" y="2971800"/>
            <a:ext cx="41907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705360" y="2590920"/>
            <a:ext cx="685800" cy="12189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2361960" y="2590920"/>
            <a:ext cx="43434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676520" y="2666880"/>
            <a:ext cx="350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gea break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676520" y="220968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0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Bird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828800" y="182880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extinction 60% of all life per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7543800" y="2133720"/>
            <a:ext cx="380880" cy="1371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2361960" y="2133720"/>
            <a:ext cx="5181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6477120" y="3352680"/>
            <a:ext cx="457200" cy="609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5" dur="indefinite" restart="never" nodeType="tmRoot">
          <p:childTnLst>
            <p:seq>
              <p:cTn id="2426" dur="indefinite" nodeType="mainSeq">
                <p:childTnLst>
                  <p:par>
                    <p:cTn id="2427" fill="hold">
                      <p:stCondLst>
                        <p:cond delay="0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4625 0.43889 E">
                                      <p:cBhvr>
                                        <p:cTn id="2430" dur="2000" fill="hold"/>
                                        <p:tgtEl>
                                          <p:spTgt spid="10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2" dur="2000" fill="hold"/>
                                        <p:tgtEl>
                                          <p:spTgt spid="105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500"/>
                            </p:stCondLst>
                            <p:childTnLst>
                              <p:par>
                                <p:cTn id="2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4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500"/>
                            </p:stCondLst>
                            <p:childTnLst>
                              <p:par>
                                <p:cTn id="2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6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500"/>
                            </p:stCondLst>
                            <p:childTnLst>
                              <p:par>
                                <p:cTn id="2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8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500"/>
                            </p:stCondLst>
                            <p:childTnLst>
                              <p:par>
                                <p:cTn id="24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7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500"/>
                            </p:stCondLst>
                            <p:childTnLst>
                              <p:par>
                                <p:cTn id="24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32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655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m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0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gea breaks 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0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Bi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5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extinction 60% of all life perishes including dinosaurs due  to large ______coll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0" dur="indefinite" restart="never" nodeType="tmRoot">
          <p:childTnLst>
            <p:seq>
              <p:cTn id="2501" dur="indefinite" nodeType="mainSeq">
                <p:childTnLst>
                  <p:par>
                    <p:cTn id="2502" fill="hold">
                      <p:stCondLst>
                        <p:cond delay="0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83afdb"/>
              </a:gs>
              <a:gs pos="100000">
                <a:srgbClr val="99c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038480" y="2438280"/>
            <a:ext cx="838440" cy="45720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952880" y="2133720"/>
            <a:ext cx="762120" cy="45720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-533520" y="2819520"/>
            <a:ext cx="11122200" cy="1258920"/>
          </a:xfrm>
          <a:custGeom>
            <a:avLst/>
            <a:gdLst/>
            <a:ahLst/>
            <a:rect l="l" t="t" r="r" b="b"/>
            <a:pathLst>
              <a:path w="7006" h="1038">
                <a:moveTo>
                  <a:pt x="375" y="226"/>
                </a:moveTo>
                <a:cubicBezTo>
                  <a:pt x="480" y="264"/>
                  <a:pt x="688" y="499"/>
                  <a:pt x="824" y="485"/>
                </a:cubicBezTo>
                <a:cubicBezTo>
                  <a:pt x="960" y="471"/>
                  <a:pt x="1036" y="124"/>
                  <a:pt x="1192" y="141"/>
                </a:cubicBezTo>
                <a:cubicBezTo>
                  <a:pt x="1348" y="158"/>
                  <a:pt x="1603" y="566"/>
                  <a:pt x="1760" y="589"/>
                </a:cubicBezTo>
                <a:cubicBezTo>
                  <a:pt x="1917" y="612"/>
                  <a:pt x="2020" y="287"/>
                  <a:pt x="2136" y="278"/>
                </a:cubicBezTo>
                <a:cubicBezTo>
                  <a:pt x="2252" y="269"/>
                  <a:pt x="2386" y="517"/>
                  <a:pt x="2456" y="533"/>
                </a:cubicBezTo>
                <a:cubicBezTo>
                  <a:pt x="2526" y="549"/>
                  <a:pt x="2499" y="434"/>
                  <a:pt x="2559" y="375"/>
                </a:cubicBezTo>
                <a:cubicBezTo>
                  <a:pt x="2619" y="316"/>
                  <a:pt x="2703" y="148"/>
                  <a:pt x="2816" y="181"/>
                </a:cubicBezTo>
                <a:cubicBezTo>
                  <a:pt x="2929" y="214"/>
                  <a:pt x="3108" y="544"/>
                  <a:pt x="3240" y="573"/>
                </a:cubicBezTo>
                <a:cubicBezTo>
                  <a:pt x="3372" y="602"/>
                  <a:pt x="3475" y="361"/>
                  <a:pt x="3608" y="357"/>
                </a:cubicBezTo>
                <a:cubicBezTo>
                  <a:pt x="3741" y="353"/>
                  <a:pt x="3854" y="607"/>
                  <a:pt x="4040" y="549"/>
                </a:cubicBezTo>
                <a:cubicBezTo>
                  <a:pt x="4226" y="491"/>
                  <a:pt x="4476" y="16"/>
                  <a:pt x="4724" y="8"/>
                </a:cubicBezTo>
                <a:cubicBezTo>
                  <a:pt x="4972" y="0"/>
                  <a:pt x="5325" y="458"/>
                  <a:pt x="5528" y="502"/>
                </a:cubicBezTo>
                <a:cubicBezTo>
                  <a:pt x="5731" y="546"/>
                  <a:pt x="5770" y="345"/>
                  <a:pt x="5941" y="272"/>
                </a:cubicBezTo>
                <a:cubicBezTo>
                  <a:pt x="6112" y="199"/>
                  <a:pt x="6426" y="56"/>
                  <a:pt x="6554" y="61"/>
                </a:cubicBezTo>
                <a:cubicBezTo>
                  <a:pt x="6682" y="65"/>
                  <a:pt x="6651" y="229"/>
                  <a:pt x="6710" y="305"/>
                </a:cubicBezTo>
                <a:cubicBezTo>
                  <a:pt x="6770" y="381"/>
                  <a:pt x="6918" y="412"/>
                  <a:pt x="6911" y="514"/>
                </a:cubicBezTo>
                <a:cubicBezTo>
                  <a:pt x="6905" y="617"/>
                  <a:pt x="7006" y="844"/>
                  <a:pt x="6673" y="916"/>
                </a:cubicBezTo>
                <a:cubicBezTo>
                  <a:pt x="6340" y="988"/>
                  <a:pt x="5437" y="931"/>
                  <a:pt x="4915" y="949"/>
                </a:cubicBezTo>
                <a:cubicBezTo>
                  <a:pt x="4392" y="966"/>
                  <a:pt x="4070" y="1006"/>
                  <a:pt x="3536" y="1018"/>
                </a:cubicBezTo>
                <a:cubicBezTo>
                  <a:pt x="3002" y="1030"/>
                  <a:pt x="2198" y="1025"/>
                  <a:pt x="1712" y="1021"/>
                </a:cubicBezTo>
                <a:cubicBezTo>
                  <a:pt x="1226" y="1017"/>
                  <a:pt x="890" y="1009"/>
                  <a:pt x="622" y="997"/>
                </a:cubicBezTo>
                <a:cubicBezTo>
                  <a:pt x="354" y="985"/>
                  <a:pt x="206" y="1038"/>
                  <a:pt x="105" y="949"/>
                </a:cubicBezTo>
                <a:cubicBezTo>
                  <a:pt x="4" y="857"/>
                  <a:pt x="0" y="571"/>
                  <a:pt x="15" y="455"/>
                </a:cubicBezTo>
                <a:cubicBezTo>
                  <a:pt x="30" y="342"/>
                  <a:pt x="135" y="298"/>
                  <a:pt x="194" y="259"/>
                </a:cubicBezTo>
                <a:cubicBezTo>
                  <a:pt x="255" y="220"/>
                  <a:pt x="194" y="209"/>
                  <a:pt x="375" y="22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4117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-1295280" y="3352680"/>
            <a:ext cx="11960280" cy="914400"/>
          </a:xfrm>
          <a:custGeom>
            <a:avLst/>
            <a:gdLst/>
            <a:ahLst/>
            <a:rect l="l" t="t" r="r" b="b"/>
            <a:pathLst>
              <a:path w="7534" h="484">
                <a:moveTo>
                  <a:pt x="403" y="112"/>
                </a:moveTo>
                <a:cubicBezTo>
                  <a:pt x="555" y="121"/>
                  <a:pt x="912" y="191"/>
                  <a:pt x="1120" y="180"/>
                </a:cubicBezTo>
                <a:cubicBezTo>
                  <a:pt x="1328" y="169"/>
                  <a:pt x="1439" y="28"/>
                  <a:pt x="1648" y="44"/>
                </a:cubicBezTo>
                <a:cubicBezTo>
                  <a:pt x="1857" y="60"/>
                  <a:pt x="2192" y="253"/>
                  <a:pt x="2376" y="276"/>
                </a:cubicBezTo>
                <a:cubicBezTo>
                  <a:pt x="2560" y="299"/>
                  <a:pt x="2623" y="223"/>
                  <a:pt x="2752" y="180"/>
                </a:cubicBezTo>
                <a:cubicBezTo>
                  <a:pt x="2881" y="137"/>
                  <a:pt x="3028" y="39"/>
                  <a:pt x="3152" y="20"/>
                </a:cubicBezTo>
                <a:cubicBezTo>
                  <a:pt x="3276" y="1"/>
                  <a:pt x="3400" y="52"/>
                  <a:pt x="3496" y="68"/>
                </a:cubicBezTo>
                <a:cubicBezTo>
                  <a:pt x="3592" y="84"/>
                  <a:pt x="3578" y="86"/>
                  <a:pt x="3729" y="115"/>
                </a:cubicBezTo>
                <a:cubicBezTo>
                  <a:pt x="3880" y="144"/>
                  <a:pt x="4175" y="261"/>
                  <a:pt x="4400" y="244"/>
                </a:cubicBezTo>
                <a:cubicBezTo>
                  <a:pt x="4625" y="227"/>
                  <a:pt x="4824" y="24"/>
                  <a:pt x="5080" y="12"/>
                </a:cubicBezTo>
                <a:cubicBezTo>
                  <a:pt x="5336" y="0"/>
                  <a:pt x="5720" y="154"/>
                  <a:pt x="5938" y="174"/>
                </a:cubicBezTo>
                <a:cubicBezTo>
                  <a:pt x="6156" y="194"/>
                  <a:pt x="6204" y="156"/>
                  <a:pt x="6389" y="133"/>
                </a:cubicBezTo>
                <a:cubicBezTo>
                  <a:pt x="6574" y="110"/>
                  <a:pt x="6910" y="34"/>
                  <a:pt x="7048" y="36"/>
                </a:cubicBezTo>
                <a:cubicBezTo>
                  <a:pt x="7186" y="38"/>
                  <a:pt x="7152" y="113"/>
                  <a:pt x="7216" y="148"/>
                </a:cubicBezTo>
                <a:cubicBezTo>
                  <a:pt x="7280" y="183"/>
                  <a:pt x="7439" y="197"/>
                  <a:pt x="7432" y="244"/>
                </a:cubicBezTo>
                <a:cubicBezTo>
                  <a:pt x="7425" y="291"/>
                  <a:pt x="7534" y="395"/>
                  <a:pt x="7176" y="428"/>
                </a:cubicBezTo>
                <a:cubicBezTo>
                  <a:pt x="6818" y="461"/>
                  <a:pt x="5847" y="435"/>
                  <a:pt x="5285" y="443"/>
                </a:cubicBezTo>
                <a:cubicBezTo>
                  <a:pt x="4723" y="451"/>
                  <a:pt x="4356" y="474"/>
                  <a:pt x="3803" y="475"/>
                </a:cubicBezTo>
                <a:cubicBezTo>
                  <a:pt x="3250" y="476"/>
                  <a:pt x="2489" y="449"/>
                  <a:pt x="1966" y="447"/>
                </a:cubicBezTo>
                <a:cubicBezTo>
                  <a:pt x="1443" y="446"/>
                  <a:pt x="978" y="466"/>
                  <a:pt x="669" y="465"/>
                </a:cubicBezTo>
                <a:cubicBezTo>
                  <a:pt x="360" y="465"/>
                  <a:pt x="222" y="484"/>
                  <a:pt x="113" y="443"/>
                </a:cubicBezTo>
                <a:cubicBezTo>
                  <a:pt x="4" y="401"/>
                  <a:pt x="0" y="270"/>
                  <a:pt x="16" y="217"/>
                </a:cubicBezTo>
                <a:cubicBezTo>
                  <a:pt x="32" y="165"/>
                  <a:pt x="145" y="145"/>
                  <a:pt x="209" y="127"/>
                </a:cubicBezTo>
                <a:cubicBezTo>
                  <a:pt x="274" y="109"/>
                  <a:pt x="209" y="104"/>
                  <a:pt x="403" y="112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en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-666720" y="3929040"/>
            <a:ext cx="10591920" cy="3157560"/>
          </a:xfrm>
          <a:custGeom>
            <a:avLst/>
            <a:gdLst/>
            <a:ahLst/>
            <a:rect l="l" t="t" r="r" b="b"/>
            <a:pathLst>
              <a:path w="6672" h="1989">
                <a:moveTo>
                  <a:pt x="460" y="301"/>
                </a:moveTo>
                <a:cubicBezTo>
                  <a:pt x="681" y="305"/>
                  <a:pt x="1149" y="325"/>
                  <a:pt x="1396" y="332"/>
                </a:cubicBezTo>
                <a:cubicBezTo>
                  <a:pt x="1643" y="339"/>
                  <a:pt x="1736" y="325"/>
                  <a:pt x="1940" y="341"/>
                </a:cubicBezTo>
                <a:cubicBezTo>
                  <a:pt x="2144" y="357"/>
                  <a:pt x="2401" y="416"/>
                  <a:pt x="2620" y="429"/>
                </a:cubicBezTo>
                <a:cubicBezTo>
                  <a:pt x="2839" y="442"/>
                  <a:pt x="3053" y="432"/>
                  <a:pt x="3252" y="421"/>
                </a:cubicBezTo>
                <a:cubicBezTo>
                  <a:pt x="3451" y="410"/>
                  <a:pt x="3532" y="371"/>
                  <a:pt x="3812" y="365"/>
                </a:cubicBezTo>
                <a:cubicBezTo>
                  <a:pt x="4092" y="359"/>
                  <a:pt x="4568" y="397"/>
                  <a:pt x="4932" y="386"/>
                </a:cubicBezTo>
                <a:cubicBezTo>
                  <a:pt x="5296" y="375"/>
                  <a:pt x="5745" y="350"/>
                  <a:pt x="5996" y="301"/>
                </a:cubicBezTo>
                <a:cubicBezTo>
                  <a:pt x="6247" y="252"/>
                  <a:pt x="6331" y="114"/>
                  <a:pt x="6436" y="93"/>
                </a:cubicBezTo>
                <a:cubicBezTo>
                  <a:pt x="6541" y="72"/>
                  <a:pt x="6612" y="0"/>
                  <a:pt x="6628" y="173"/>
                </a:cubicBezTo>
                <a:cubicBezTo>
                  <a:pt x="6644" y="346"/>
                  <a:pt x="6537" y="870"/>
                  <a:pt x="6532" y="1131"/>
                </a:cubicBezTo>
                <a:cubicBezTo>
                  <a:pt x="6527" y="1392"/>
                  <a:pt x="6672" y="1607"/>
                  <a:pt x="6596" y="1743"/>
                </a:cubicBezTo>
                <a:cubicBezTo>
                  <a:pt x="6520" y="1879"/>
                  <a:pt x="6540" y="1916"/>
                  <a:pt x="6076" y="1949"/>
                </a:cubicBezTo>
                <a:cubicBezTo>
                  <a:pt x="5612" y="1982"/>
                  <a:pt x="4497" y="1947"/>
                  <a:pt x="3812" y="1942"/>
                </a:cubicBezTo>
                <a:cubicBezTo>
                  <a:pt x="3127" y="1937"/>
                  <a:pt x="2483" y="1926"/>
                  <a:pt x="1964" y="1917"/>
                </a:cubicBezTo>
                <a:cubicBezTo>
                  <a:pt x="1445" y="1908"/>
                  <a:pt x="1003" y="1914"/>
                  <a:pt x="700" y="1889"/>
                </a:cubicBezTo>
                <a:cubicBezTo>
                  <a:pt x="397" y="1864"/>
                  <a:pt x="256" y="1989"/>
                  <a:pt x="148" y="1769"/>
                </a:cubicBezTo>
                <a:cubicBezTo>
                  <a:pt x="40" y="1550"/>
                  <a:pt x="65" y="815"/>
                  <a:pt x="52" y="572"/>
                </a:cubicBezTo>
                <a:cubicBezTo>
                  <a:pt x="39" y="329"/>
                  <a:pt x="0" y="354"/>
                  <a:pt x="68" y="309"/>
                </a:cubicBezTo>
                <a:cubicBezTo>
                  <a:pt x="136" y="264"/>
                  <a:pt x="239" y="297"/>
                  <a:pt x="460" y="301"/>
                </a:cubicBezTo>
                <a:close/>
              </a:path>
            </a:pathLst>
          </a:custGeom>
          <a:gradFill rotWithShape="0">
            <a:gsLst>
              <a:gs pos="0">
                <a:srgbClr val="122400"/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-152280" y="5486400"/>
            <a:ext cx="5715000" cy="137160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2"/>
          <a:stretch/>
        </p:blipFill>
        <p:spPr>
          <a:xfrm>
            <a:off x="5257800" y="5486400"/>
            <a:ext cx="5715000" cy="137160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3"/>
          <a:stretch/>
        </p:blipFill>
        <p:spPr>
          <a:xfrm>
            <a:off x="-152280" y="4876920"/>
            <a:ext cx="5715000" cy="60948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/>
          <p:cNvPicPr/>
          <p:nvPr/>
        </p:nvPicPr>
        <p:blipFill>
          <a:blip r:embed="rId4"/>
          <a:stretch/>
        </p:blipFill>
        <p:spPr>
          <a:xfrm>
            <a:off x="5257800" y="4876920"/>
            <a:ext cx="5715000" cy="60948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 flipV="1">
            <a:off x="-228240" y="4570920"/>
            <a:ext cx="10591920" cy="29718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-685800" y="3809880"/>
            <a:ext cx="10820520" cy="1371600"/>
          </a:xfrm>
          <a:custGeom>
            <a:avLst/>
            <a:gdLst/>
            <a:ahLst/>
            <a:rect l="l" t="t" r="r" b="b"/>
            <a:pathLst>
              <a:path w="6816" h="864">
                <a:moveTo>
                  <a:pt x="403" y="17"/>
                </a:moveTo>
                <a:cubicBezTo>
                  <a:pt x="537" y="47"/>
                  <a:pt x="789" y="203"/>
                  <a:pt x="1015" y="228"/>
                </a:cubicBezTo>
                <a:cubicBezTo>
                  <a:pt x="1242" y="252"/>
                  <a:pt x="1531" y="170"/>
                  <a:pt x="1764" y="167"/>
                </a:cubicBezTo>
                <a:cubicBezTo>
                  <a:pt x="1998" y="164"/>
                  <a:pt x="2178" y="228"/>
                  <a:pt x="2417" y="209"/>
                </a:cubicBezTo>
                <a:cubicBezTo>
                  <a:pt x="2656" y="190"/>
                  <a:pt x="2909" y="47"/>
                  <a:pt x="3199" y="52"/>
                </a:cubicBezTo>
                <a:cubicBezTo>
                  <a:pt x="3488" y="55"/>
                  <a:pt x="3831" y="236"/>
                  <a:pt x="4149" y="233"/>
                </a:cubicBezTo>
                <a:cubicBezTo>
                  <a:pt x="4467" y="228"/>
                  <a:pt x="4810" y="36"/>
                  <a:pt x="5108" y="23"/>
                </a:cubicBezTo>
                <a:cubicBezTo>
                  <a:pt x="5406" y="11"/>
                  <a:pt x="5724" y="151"/>
                  <a:pt x="5938" y="158"/>
                </a:cubicBezTo>
                <a:cubicBezTo>
                  <a:pt x="6151" y="164"/>
                  <a:pt x="6272" y="77"/>
                  <a:pt x="6389" y="65"/>
                </a:cubicBezTo>
                <a:cubicBezTo>
                  <a:pt x="6506" y="53"/>
                  <a:pt x="6596" y="17"/>
                  <a:pt x="6639" y="85"/>
                </a:cubicBezTo>
                <a:cubicBezTo>
                  <a:pt x="6682" y="153"/>
                  <a:pt x="6653" y="360"/>
                  <a:pt x="6648" y="472"/>
                </a:cubicBezTo>
                <a:cubicBezTo>
                  <a:pt x="6643" y="584"/>
                  <a:pt x="6816" y="723"/>
                  <a:pt x="6607" y="758"/>
                </a:cubicBezTo>
                <a:cubicBezTo>
                  <a:pt x="6398" y="793"/>
                  <a:pt x="5860" y="677"/>
                  <a:pt x="5392" y="680"/>
                </a:cubicBezTo>
                <a:cubicBezTo>
                  <a:pt x="4924" y="683"/>
                  <a:pt x="4353" y="783"/>
                  <a:pt x="3800" y="778"/>
                </a:cubicBezTo>
                <a:cubicBezTo>
                  <a:pt x="3247" y="773"/>
                  <a:pt x="2594" y="641"/>
                  <a:pt x="2072" y="648"/>
                </a:cubicBezTo>
                <a:cubicBezTo>
                  <a:pt x="1550" y="655"/>
                  <a:pt x="996" y="801"/>
                  <a:pt x="669" y="821"/>
                </a:cubicBezTo>
                <a:cubicBezTo>
                  <a:pt x="342" y="841"/>
                  <a:pt x="222" y="864"/>
                  <a:pt x="113" y="770"/>
                </a:cubicBezTo>
                <a:cubicBezTo>
                  <a:pt x="4" y="676"/>
                  <a:pt x="0" y="377"/>
                  <a:pt x="16" y="257"/>
                </a:cubicBezTo>
                <a:cubicBezTo>
                  <a:pt x="32" y="137"/>
                  <a:pt x="145" y="91"/>
                  <a:pt x="209" y="52"/>
                </a:cubicBezTo>
                <a:cubicBezTo>
                  <a:pt x="274" y="12"/>
                  <a:pt x="209" y="0"/>
                  <a:pt x="403" y="17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/>
          <p:cNvPicPr/>
          <p:nvPr/>
        </p:nvPicPr>
        <p:blipFill>
          <a:blip r:embed="rId6"/>
          <a:stretch/>
        </p:blipFill>
        <p:spPr>
          <a:xfrm flipH="1">
            <a:off x="5412960" y="4495680"/>
            <a:ext cx="1019160" cy="106704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7"/>
          <a:stretch/>
        </p:blipFill>
        <p:spPr>
          <a:xfrm flipH="1">
            <a:off x="3885840" y="4419720"/>
            <a:ext cx="654120" cy="914400"/>
          </a:xfrm>
          <a:prstGeom prst="rect">
            <a:avLst/>
          </a:prstGeom>
          <a:ln w="0">
            <a:noFill/>
          </a:ln>
        </p:spPr>
      </p:pic>
      <p:pic>
        <p:nvPicPr>
          <p:cNvPr id="1107" name="" descr=""/>
          <p:cNvPicPr/>
          <p:nvPr/>
        </p:nvPicPr>
        <p:blipFill>
          <a:blip r:embed="rId8"/>
          <a:stretch/>
        </p:blipFill>
        <p:spPr>
          <a:xfrm flipH="1">
            <a:off x="9144000" y="4572000"/>
            <a:ext cx="822240" cy="83808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9"/>
          <a:stretch/>
        </p:blipFill>
        <p:spPr>
          <a:xfrm flipH="1">
            <a:off x="1066680" y="4444920"/>
            <a:ext cx="1067040" cy="88920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1600200" y="2209680"/>
            <a:ext cx="1219320" cy="45576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133720" y="9907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inosaurs gone, Mammals would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and dominate th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62120" y="1676520"/>
            <a:ext cx="662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mammals thrive such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ses, Mammoths, and Pr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838080" y="2362320"/>
            <a:ext cx="670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ind would evolve and inha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expanding it’s populati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57200" y="2895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Ice Ages came in went ca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inction of many large mammal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6858000" y="0"/>
            <a:ext cx="2286000" cy="2209680"/>
            <a:chOff x="6858000" y="0"/>
            <a:chExt cx="2286000" cy="2209680"/>
          </a:xfrm>
        </p:grpSpPr>
        <p:pic>
          <p:nvPicPr>
            <p:cNvPr id="1115" name="" descr=""/>
            <p:cNvPicPr/>
            <p:nvPr/>
          </p:nvPicPr>
          <p:blipFill>
            <a:blip r:embed="rId10"/>
            <a:stretch/>
          </p:blipFill>
          <p:spPr>
            <a:xfrm>
              <a:off x="6858000" y="0"/>
              <a:ext cx="22860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7943040" y="112320"/>
              <a:ext cx="1007280" cy="194760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051680" y="518040"/>
              <a:ext cx="998640" cy="153324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594200" y="1161000"/>
              <a:ext cx="92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141320" y="282240"/>
              <a:ext cx="898920" cy="97128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2876400">
              <a:off x="7370640" y="633600"/>
              <a:ext cx="5241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420680" y="133920"/>
              <a:ext cx="588240" cy="113148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3994200">
              <a:off x="7525800" y="559080"/>
              <a:ext cx="5241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775640" y="131040"/>
              <a:ext cx="237240" cy="1139040"/>
            </a:xfrm>
            <a:custGeom>
              <a:avLst/>
              <a:gdLst/>
              <a:ahLst/>
              <a:rect l="l" t="t" r="r" b="b"/>
              <a:pathLst>
                <a:path w="294" h="1460">
                  <a:moveTo>
                    <a:pt x="251" y="1264"/>
                  </a:moveTo>
                  <a:cubicBezTo>
                    <a:pt x="213" y="1095"/>
                    <a:pt x="78" y="421"/>
                    <a:pt x="39" y="230"/>
                  </a:cubicBezTo>
                  <a:cubicBezTo>
                    <a:pt x="0" y="39"/>
                    <a:pt x="9" y="142"/>
                    <a:pt x="18" y="119"/>
                  </a:cubicBezTo>
                  <a:cubicBezTo>
                    <a:pt x="27" y="96"/>
                    <a:pt x="68" y="100"/>
                    <a:pt x="93" y="95"/>
                  </a:cubicBezTo>
                  <a:cubicBezTo>
                    <a:pt x="118" y="90"/>
                    <a:pt x="139" y="87"/>
                    <a:pt x="168" y="86"/>
                  </a:cubicBezTo>
                  <a:cubicBezTo>
                    <a:pt x="197" y="85"/>
                    <a:pt x="250" y="72"/>
                    <a:pt x="269" y="90"/>
                  </a:cubicBezTo>
                  <a:cubicBezTo>
                    <a:pt x="288" y="108"/>
                    <a:pt x="281" y="0"/>
                    <a:pt x="281" y="192"/>
                  </a:cubicBezTo>
                  <a:cubicBezTo>
                    <a:pt x="281" y="384"/>
                    <a:pt x="272" y="1065"/>
                    <a:pt x="267" y="1244"/>
                  </a:cubicBezTo>
                  <a:cubicBezTo>
                    <a:pt x="262" y="1423"/>
                    <a:pt x="294" y="1460"/>
                    <a:pt x="251" y="1264"/>
                  </a:cubicBezTo>
                  <a:close/>
                </a:path>
              </a:pathLst>
            </a:custGeom>
            <a:solidFill>
              <a:srgbClr val="0066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7981560" y="186840"/>
              <a:ext cx="0" cy="973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4927200">
              <a:off x="7623720" y="464760"/>
              <a:ext cx="5990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10" dur="indefinite" restart="never" nodeType="tmRoot">
          <p:childTnLst>
            <p:seq>
              <p:cTn id="2511" dur="indefinite" nodeType="mainSeq">
                <p:childTnLst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0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4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6.33673E-006 C -0.03664 0.01273 -0.07327 0.02568 -0.10782 0.03123 C -0.14237 0.03678 -0.17865 0.01874 -0.20782 0.03285 C -0.23698 0.04695 -0.25226 0.09367 -0.28316 0.11587 C -0.31407 0.13807 -0.35313 0.16051 -0.39358 0.16606 C -0.43403 0.17161 -0.48369 0.15126 -0.52605 0.14871 C -0.56841 0.14617 -0.59306 0.14201 -0.64809 0.15056 C -0.70313 0.15912 -0.78056 0.17392 -0.85591 0.20075 C -0.93125 0.22757 -1.05938 0.29302 -1.1 0.31152 E">
                                      <p:cBhvr>
                                        <p:cTn id="2530" dur="25000" fill="hold"/>
                                        <p:tgtEl>
                                          <p:spTgt spid="1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2" dur="8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4" dur="2000" fill="hold"/>
                                        <p:tgtEl>
                                          <p:spTgt spid="111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5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3.33333E-006 L 0.45834 0.42222 E">
                                      <p:cBhvr>
                                        <p:cTn id="2536" dur="2000" fill="hold"/>
                                        <p:tgtEl>
                                          <p:spTgt spid="1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92640" y="1873080"/>
            <a:ext cx="1157040" cy="2302200"/>
          </a:xfrm>
          <a:custGeom>
            <a:avLst/>
            <a:gdLst/>
            <a:ahLst/>
            <a:rect l="l" t="t" r="r" b="b"/>
            <a:pathLst>
              <a:path w="729" h="1450">
                <a:moveTo>
                  <a:pt x="699" y="1304"/>
                </a:moveTo>
                <a:cubicBezTo>
                  <a:pt x="601" y="1144"/>
                  <a:pt x="198" y="439"/>
                  <a:pt x="99" y="264"/>
                </a:cubicBezTo>
                <a:cubicBezTo>
                  <a:pt x="0" y="89"/>
                  <a:pt x="82" y="269"/>
                  <a:pt x="107" y="256"/>
                </a:cubicBezTo>
                <a:cubicBezTo>
                  <a:pt x="132" y="243"/>
                  <a:pt x="190" y="205"/>
                  <a:pt x="247" y="184"/>
                </a:cubicBezTo>
                <a:cubicBezTo>
                  <a:pt x="304" y="163"/>
                  <a:pt x="410" y="127"/>
                  <a:pt x="447" y="128"/>
                </a:cubicBezTo>
                <a:cubicBezTo>
                  <a:pt x="484" y="129"/>
                  <a:pt x="430" y="0"/>
                  <a:pt x="471" y="189"/>
                </a:cubicBezTo>
                <a:cubicBezTo>
                  <a:pt x="512" y="378"/>
                  <a:pt x="653" y="1078"/>
                  <a:pt x="691" y="1264"/>
                </a:cubicBezTo>
                <a:cubicBezTo>
                  <a:pt x="729" y="1450"/>
                  <a:pt x="697" y="1296"/>
                  <a:pt x="699" y="1304"/>
                </a:cubicBezTo>
                <a:close/>
              </a:path>
            </a:pathLst>
          </a:custGeom>
          <a:solidFill>
            <a:srgbClr val="008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rot="3994200">
            <a:off x="3581280" y="274320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091040" y="1866960"/>
            <a:ext cx="466560" cy="2317680"/>
          </a:xfrm>
          <a:custGeom>
            <a:avLst/>
            <a:gdLst/>
            <a:ahLst/>
            <a:rect l="l" t="t" r="r" b="b"/>
            <a:pathLst>
              <a:path w="294" h="1460">
                <a:moveTo>
                  <a:pt x="251" y="1264"/>
                </a:moveTo>
                <a:cubicBezTo>
                  <a:pt x="213" y="1095"/>
                  <a:pt x="78" y="421"/>
                  <a:pt x="39" y="230"/>
                </a:cubicBezTo>
                <a:cubicBezTo>
                  <a:pt x="0" y="39"/>
                  <a:pt x="9" y="142"/>
                  <a:pt x="18" y="119"/>
                </a:cubicBezTo>
                <a:cubicBezTo>
                  <a:pt x="27" y="96"/>
                  <a:pt x="68" y="100"/>
                  <a:pt x="93" y="95"/>
                </a:cubicBezTo>
                <a:cubicBezTo>
                  <a:pt x="118" y="90"/>
                  <a:pt x="139" y="87"/>
                  <a:pt x="168" y="86"/>
                </a:cubicBezTo>
                <a:cubicBezTo>
                  <a:pt x="197" y="85"/>
                  <a:pt x="250" y="72"/>
                  <a:pt x="269" y="90"/>
                </a:cubicBezTo>
                <a:cubicBezTo>
                  <a:pt x="288" y="108"/>
                  <a:pt x="281" y="0"/>
                  <a:pt x="281" y="192"/>
                </a:cubicBezTo>
                <a:cubicBezTo>
                  <a:pt x="281" y="384"/>
                  <a:pt x="272" y="1065"/>
                  <a:pt x="267" y="1244"/>
                </a:cubicBezTo>
                <a:cubicBezTo>
                  <a:pt x="262" y="1423"/>
                  <a:pt x="294" y="1460"/>
                  <a:pt x="251" y="1264"/>
                </a:cubicBezTo>
                <a:close/>
              </a:path>
            </a:pathLst>
          </a:custGeom>
          <a:solidFill>
            <a:srgbClr val="00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495680" y="198108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rot="4927200">
            <a:off x="3772080" y="2552400"/>
            <a:ext cx="121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3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6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380880" y="2133720"/>
            <a:ext cx="784836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Relative D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cept of dating rocks by putting geologic events in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8854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1240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808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3616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6483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8854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801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1240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6476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808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854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92600">
            <a:off x="38858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1240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04920" y="2108160"/>
            <a:ext cx="7739280" cy="2036880"/>
          </a:xfrm>
          <a:custGeom>
            <a:avLst/>
            <a:gdLst/>
            <a:ahLst/>
            <a:rect l="l" t="t" r="r" b="b"/>
            <a:pathLst>
              <a:path w="4875" h="1283">
                <a:moveTo>
                  <a:pt x="4513" y="1188"/>
                </a:moveTo>
                <a:cubicBezTo>
                  <a:pt x="4204" y="1241"/>
                  <a:pt x="4132" y="1186"/>
                  <a:pt x="3903" y="1127"/>
                </a:cubicBezTo>
                <a:cubicBezTo>
                  <a:pt x="3425" y="1140"/>
                  <a:pt x="2964" y="1157"/>
                  <a:pt x="2480" y="1161"/>
                </a:cubicBezTo>
                <a:cubicBezTo>
                  <a:pt x="2438" y="1190"/>
                  <a:pt x="2482" y="1165"/>
                  <a:pt x="2399" y="1182"/>
                </a:cubicBezTo>
                <a:cubicBezTo>
                  <a:pt x="2378" y="1186"/>
                  <a:pt x="2359" y="1196"/>
                  <a:pt x="2338" y="1202"/>
                </a:cubicBezTo>
                <a:cubicBezTo>
                  <a:pt x="2295" y="1214"/>
                  <a:pt x="2340" y="1203"/>
                  <a:pt x="2283" y="1229"/>
                </a:cubicBezTo>
                <a:cubicBezTo>
                  <a:pt x="2224" y="1256"/>
                  <a:pt x="2156" y="1267"/>
                  <a:pt x="2094" y="1283"/>
                </a:cubicBezTo>
                <a:cubicBezTo>
                  <a:pt x="1913" y="1281"/>
                  <a:pt x="1733" y="1282"/>
                  <a:pt x="1552" y="1276"/>
                </a:cubicBezTo>
                <a:cubicBezTo>
                  <a:pt x="1523" y="1275"/>
                  <a:pt x="1475" y="1230"/>
                  <a:pt x="1443" y="1222"/>
                </a:cubicBezTo>
                <a:cubicBezTo>
                  <a:pt x="1389" y="1209"/>
                  <a:pt x="1335" y="1202"/>
                  <a:pt x="1280" y="1188"/>
                </a:cubicBezTo>
                <a:cubicBezTo>
                  <a:pt x="1002" y="1117"/>
                  <a:pt x="707" y="1184"/>
                  <a:pt x="420" y="1182"/>
                </a:cubicBezTo>
                <a:cubicBezTo>
                  <a:pt x="315" y="1155"/>
                  <a:pt x="277" y="1046"/>
                  <a:pt x="189" y="992"/>
                </a:cubicBezTo>
                <a:cubicBezTo>
                  <a:pt x="167" y="957"/>
                  <a:pt x="183" y="975"/>
                  <a:pt x="135" y="944"/>
                </a:cubicBezTo>
                <a:cubicBezTo>
                  <a:pt x="128" y="940"/>
                  <a:pt x="115" y="931"/>
                  <a:pt x="115" y="931"/>
                </a:cubicBezTo>
                <a:cubicBezTo>
                  <a:pt x="110" y="924"/>
                  <a:pt x="107" y="916"/>
                  <a:pt x="101" y="910"/>
                </a:cubicBezTo>
                <a:cubicBezTo>
                  <a:pt x="89" y="899"/>
                  <a:pt x="61" y="883"/>
                  <a:pt x="61" y="883"/>
                </a:cubicBezTo>
                <a:cubicBezTo>
                  <a:pt x="36" y="847"/>
                  <a:pt x="13" y="825"/>
                  <a:pt x="0" y="782"/>
                </a:cubicBezTo>
                <a:cubicBezTo>
                  <a:pt x="2" y="750"/>
                  <a:pt x="1" y="718"/>
                  <a:pt x="6" y="687"/>
                </a:cubicBezTo>
                <a:cubicBezTo>
                  <a:pt x="13" y="646"/>
                  <a:pt x="94" y="611"/>
                  <a:pt x="128" y="599"/>
                </a:cubicBezTo>
                <a:cubicBezTo>
                  <a:pt x="169" y="558"/>
                  <a:pt x="126" y="593"/>
                  <a:pt x="176" y="572"/>
                </a:cubicBezTo>
                <a:cubicBezTo>
                  <a:pt x="200" y="562"/>
                  <a:pt x="195" y="552"/>
                  <a:pt x="217" y="538"/>
                </a:cubicBezTo>
                <a:cubicBezTo>
                  <a:pt x="282" y="495"/>
                  <a:pt x="379" y="482"/>
                  <a:pt x="454" y="470"/>
                </a:cubicBezTo>
                <a:cubicBezTo>
                  <a:pt x="587" y="449"/>
                  <a:pt x="717" y="413"/>
                  <a:pt x="854" y="409"/>
                </a:cubicBezTo>
                <a:cubicBezTo>
                  <a:pt x="1003" y="405"/>
                  <a:pt x="1152" y="404"/>
                  <a:pt x="1301" y="402"/>
                </a:cubicBezTo>
                <a:cubicBezTo>
                  <a:pt x="1337" y="379"/>
                  <a:pt x="1400" y="363"/>
                  <a:pt x="1443" y="348"/>
                </a:cubicBezTo>
                <a:cubicBezTo>
                  <a:pt x="1451" y="345"/>
                  <a:pt x="1482" y="339"/>
                  <a:pt x="1491" y="334"/>
                </a:cubicBezTo>
                <a:cubicBezTo>
                  <a:pt x="1555" y="298"/>
                  <a:pt x="1506" y="313"/>
                  <a:pt x="1558" y="301"/>
                </a:cubicBezTo>
                <a:cubicBezTo>
                  <a:pt x="1615" y="266"/>
                  <a:pt x="1667" y="236"/>
                  <a:pt x="1734" y="226"/>
                </a:cubicBezTo>
                <a:cubicBezTo>
                  <a:pt x="1808" y="189"/>
                  <a:pt x="1885" y="142"/>
                  <a:pt x="1965" y="118"/>
                </a:cubicBezTo>
                <a:cubicBezTo>
                  <a:pt x="1988" y="102"/>
                  <a:pt x="2005" y="97"/>
                  <a:pt x="2033" y="91"/>
                </a:cubicBezTo>
                <a:cubicBezTo>
                  <a:pt x="2074" y="62"/>
                  <a:pt x="2118" y="62"/>
                  <a:pt x="2168" y="57"/>
                </a:cubicBezTo>
                <a:cubicBezTo>
                  <a:pt x="2446" y="0"/>
                  <a:pt x="2734" y="48"/>
                  <a:pt x="3018" y="42"/>
                </a:cubicBezTo>
                <a:cubicBezTo>
                  <a:pt x="3155" y="14"/>
                  <a:pt x="3505" y="33"/>
                  <a:pt x="3594" y="34"/>
                </a:cubicBezTo>
                <a:cubicBezTo>
                  <a:pt x="3705" y="42"/>
                  <a:pt x="3805" y="42"/>
                  <a:pt x="3917" y="50"/>
                </a:cubicBezTo>
                <a:cubicBezTo>
                  <a:pt x="3943" y="59"/>
                  <a:pt x="3998" y="70"/>
                  <a:pt x="3998" y="70"/>
                </a:cubicBezTo>
                <a:cubicBezTo>
                  <a:pt x="4031" y="93"/>
                  <a:pt x="4069" y="97"/>
                  <a:pt x="4106" y="111"/>
                </a:cubicBezTo>
                <a:cubicBezTo>
                  <a:pt x="4177" y="137"/>
                  <a:pt x="4240" y="163"/>
                  <a:pt x="4316" y="172"/>
                </a:cubicBezTo>
                <a:cubicBezTo>
                  <a:pt x="4364" y="184"/>
                  <a:pt x="4404" y="214"/>
                  <a:pt x="4452" y="226"/>
                </a:cubicBezTo>
                <a:cubicBezTo>
                  <a:pt x="4496" y="257"/>
                  <a:pt x="4559" y="260"/>
                  <a:pt x="4608" y="287"/>
                </a:cubicBezTo>
                <a:cubicBezTo>
                  <a:pt x="4639" y="304"/>
                  <a:pt x="4670" y="338"/>
                  <a:pt x="4696" y="362"/>
                </a:cubicBezTo>
                <a:cubicBezTo>
                  <a:pt x="4722" y="386"/>
                  <a:pt x="4745" y="411"/>
                  <a:pt x="4770" y="436"/>
                </a:cubicBezTo>
                <a:cubicBezTo>
                  <a:pt x="4781" y="447"/>
                  <a:pt x="4793" y="459"/>
                  <a:pt x="4804" y="470"/>
                </a:cubicBezTo>
                <a:cubicBezTo>
                  <a:pt x="4813" y="479"/>
                  <a:pt x="4831" y="497"/>
                  <a:pt x="4831" y="497"/>
                </a:cubicBezTo>
                <a:cubicBezTo>
                  <a:pt x="4836" y="511"/>
                  <a:pt x="4840" y="524"/>
                  <a:pt x="4845" y="538"/>
                </a:cubicBezTo>
                <a:cubicBezTo>
                  <a:pt x="4847" y="545"/>
                  <a:pt x="4852" y="558"/>
                  <a:pt x="4852" y="558"/>
                </a:cubicBezTo>
                <a:cubicBezTo>
                  <a:pt x="4856" y="601"/>
                  <a:pt x="4870" y="644"/>
                  <a:pt x="4872" y="687"/>
                </a:cubicBezTo>
                <a:cubicBezTo>
                  <a:pt x="4875" y="756"/>
                  <a:pt x="4862" y="823"/>
                  <a:pt x="4852" y="890"/>
                </a:cubicBezTo>
                <a:cubicBezTo>
                  <a:pt x="4847" y="925"/>
                  <a:pt x="4856" y="979"/>
                  <a:pt x="4818" y="992"/>
                </a:cubicBezTo>
                <a:cubicBezTo>
                  <a:pt x="4804" y="1031"/>
                  <a:pt x="4748" y="1045"/>
                  <a:pt x="4709" y="1053"/>
                </a:cubicBezTo>
                <a:cubicBezTo>
                  <a:pt x="4656" y="1091"/>
                  <a:pt x="4681" y="1081"/>
                  <a:pt x="4642" y="1093"/>
                </a:cubicBezTo>
                <a:cubicBezTo>
                  <a:pt x="4608" y="1115"/>
                  <a:pt x="4571" y="1121"/>
                  <a:pt x="4533" y="1134"/>
                </a:cubicBezTo>
                <a:cubicBezTo>
                  <a:pt x="4521" y="1152"/>
                  <a:pt x="4513" y="1166"/>
                  <a:pt x="4513" y="11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94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67057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 rot="21553200">
            <a:off x="54097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4100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3044400">
            <a:off x="32605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266688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4400" y="2057400"/>
            <a:ext cx="174960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29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294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29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29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300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30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30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30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308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1140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843280" y="2174760"/>
              <a:ext cx="1768320" cy="19764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392640" y="1873080"/>
              <a:ext cx="1157040" cy="230220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3994200">
              <a:off x="3581280" y="2743200"/>
              <a:ext cx="1066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091040" y="1866960"/>
              <a:ext cx="466560" cy="2317680"/>
            </a:xfrm>
            <a:custGeom>
              <a:avLst/>
              <a:gdLst/>
              <a:ahLst/>
              <a:rect l="l" t="t" r="r" b="b"/>
              <a:pathLst>
                <a:path w="294" h="1460">
                  <a:moveTo>
                    <a:pt x="251" y="1264"/>
                  </a:moveTo>
                  <a:cubicBezTo>
                    <a:pt x="213" y="1095"/>
                    <a:pt x="78" y="421"/>
                    <a:pt x="39" y="230"/>
                  </a:cubicBezTo>
                  <a:cubicBezTo>
                    <a:pt x="0" y="39"/>
                    <a:pt x="9" y="142"/>
                    <a:pt x="18" y="119"/>
                  </a:cubicBezTo>
                  <a:cubicBezTo>
                    <a:pt x="27" y="96"/>
                    <a:pt x="68" y="100"/>
                    <a:pt x="93" y="95"/>
                  </a:cubicBezTo>
                  <a:cubicBezTo>
                    <a:pt x="118" y="90"/>
                    <a:pt x="139" y="87"/>
                    <a:pt x="168" y="86"/>
                  </a:cubicBezTo>
                  <a:cubicBezTo>
                    <a:pt x="197" y="85"/>
                    <a:pt x="250" y="72"/>
                    <a:pt x="269" y="90"/>
                  </a:cubicBezTo>
                  <a:cubicBezTo>
                    <a:pt x="288" y="108"/>
                    <a:pt x="281" y="0"/>
                    <a:pt x="281" y="192"/>
                  </a:cubicBezTo>
                  <a:cubicBezTo>
                    <a:pt x="281" y="384"/>
                    <a:pt x="272" y="1065"/>
                    <a:pt x="267" y="1244"/>
                  </a:cubicBezTo>
                  <a:cubicBezTo>
                    <a:pt x="262" y="1423"/>
                    <a:pt x="294" y="1460"/>
                    <a:pt x="251" y="1264"/>
                  </a:cubicBezTo>
                  <a:close/>
                </a:path>
              </a:pathLst>
            </a:custGeom>
            <a:solidFill>
              <a:srgbClr val="0066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495680" y="1981080"/>
              <a:ext cx="0" cy="198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4927200">
              <a:off x="3772080" y="255240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 flipH="1" flipV="1">
            <a:off x="7924680" y="2514600"/>
            <a:ext cx="152640" cy="8380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3580920" y="2514600"/>
            <a:ext cx="43434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657600" y="220968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e of the largest Ice ages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8458200" y="2133360"/>
            <a:ext cx="76320" cy="10666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3580920" y="2133720"/>
            <a:ext cx="48769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895480" y="18288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uman Ancestors appea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2952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,000 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 human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8610480" y="1676160"/>
            <a:ext cx="0" cy="15238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3581280" y="1676520"/>
            <a:ext cx="50292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0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2" dur="2000" fill="hold"/>
                                        <p:tgtEl>
                                          <p:spTgt spid="113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5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3.33333E-006 L 0.45834 0.42222 E">
                                      <p:cBhvr>
                                        <p:cTn id="2554" dur="2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500"/>
                            </p:stCondLst>
                            <p:childTnLst>
                              <p:par>
                                <p:cTn id="25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500"/>
                            </p:stCondLst>
                            <p:childTnLst>
                              <p:par>
                                <p:cTn id="25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5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8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5638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5 m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jor ice age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ancestors appe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00,000ya-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 modern 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r writing this down!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010280" y="2286000"/>
            <a:ext cx="1752840" cy="3124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086600" y="259092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1" dur="indefinite" restart="never" nodeType="tmRoot">
          <p:childTnLst>
            <p:seq>
              <p:cTn id="2592" dur="indefinite" nodeType="mainSeq">
                <p:childTnLst>
                  <p:par>
                    <p:cTn id="2593" fill="hold">
                      <p:stCondLst>
                        <p:cond delay="0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0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iz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 the events in ord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mals dominate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extinction 90% of all life wip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tiles dominate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sio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toplankton create oxygen rich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extinction 65% of all life wiped out including 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Super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266360" y="3594240"/>
            <a:ext cx="270684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50460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62120" y="3581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74248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029200" y="45720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267080" y="457200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504600" y="45720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28480" y="556272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1400" y="55627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267080" y="556200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790600" y="55627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layers of deposited sedimentary rock, the oldest rock layers are at the bottom and the rock layers become younger toward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1800" y="561600"/>
            <a:ext cx="73404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Super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le of Superposition: States that the oldest rock layers are at the bottom and the rock layers become younger toward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410080" y="33526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648320" cy="2936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Superpo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Old rocks formed on the bottom and young rocks are at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SEDIANIM.GIF (205851 bytes)"/>
          <p:cNvPicPr/>
          <p:nvPr/>
        </p:nvPicPr>
        <p:blipFill>
          <a:blip r:embed="rId1"/>
          <a:stretch/>
        </p:blipFill>
        <p:spPr>
          <a:xfrm>
            <a:off x="-152280" y="1219320"/>
            <a:ext cx="4441680" cy="5638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rot="20732400">
            <a:off x="3428640" y="2057040"/>
            <a:ext cx="350532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t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rot="20580000">
            <a:off x="2590560" y="3428640"/>
            <a:ext cx="1122120" cy="420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20732400">
            <a:off x="4114440" y="4495320"/>
            <a:ext cx="350532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d rocks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e bot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 rot="20419800">
            <a:off x="3276360" y="5791320"/>
            <a:ext cx="1122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4:30:22Z</dcterms:created>
  <dc:creator> john swanson</dc:creator>
  <dc:description/>
  <dc:language>en-US</dc:language>
  <cp:lastModifiedBy>jfuller</cp:lastModifiedBy>
  <dcterms:modified xsi:type="dcterms:W3CDTF">2011-12-01T19:09:53Z</dcterms:modified>
  <cp:revision>76</cp:revision>
  <dc:subject/>
  <dc:title>Geologic History</dc:title>
</cp:coreProperties>
</file>